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AF5-CF35-44D9-B9F0-F5AD6330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231-F44B-408B-B554-2A7E9C46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7F447-1458-4D55-AD77-E628383C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9BC09-D06C-4921-8015-61C0EB62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14F2A-21B1-4043-B6C6-36A7327A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52539-DA4B-49AA-82AE-B880841A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293C6-9ADC-4E22-80CF-05B18C23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26762-0116-4FC1-B19F-F8098F99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6BEE5-F48A-4370-8C0C-1EA992D5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D4EF1-20F3-4863-80D7-6AFF4E69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79309-A728-4BA9-B901-3D3EE229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FC040-0069-4B23-9A21-0E151373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A86-AA56-4F65-BEF5-88CE501C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6B490-0E77-4E30-8FB2-53DA0AE6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F44F2-44DF-446F-A085-D5F019A7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38053-E94B-4948-9FFE-DDE2A5EB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3790B-D271-4E41-B6A3-01BDDEF7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8BCED-31B1-46FC-8ADE-96322CAC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9C022-1C43-4B61-8DB0-CCBECAF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43D88-C018-4B43-8716-DCE2B587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F098F-95B9-4DCE-A82F-E67A099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39C67-1C89-4AC0-821B-7247E871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94B7C-98D3-4211-A416-D8B54CE8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680-A95E-405E-A7ED-ABBBDF8D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6E129-C782-473E-B14E-5322E97F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8409C-F542-40EC-8393-4913145D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051F2-B4E4-4E14-AF4B-86FD4093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BBFD6-0503-428F-9968-889C137F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80A4A-F5AA-49F1-8280-88160FC1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C1F23-B378-4490-897C-22E0D45F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94E6C-8218-4492-9E7E-53FA3535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88560-E5E0-40A2-AC45-B5505576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14D7A-8FAD-4217-B080-A980E41C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E6382-4CD2-4999-9321-CF449D02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7E7F-73C8-4A66-BC1E-048212E5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D9E49-1740-46DD-B079-E32C2551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A3DE0-5999-4D87-8C8D-57683C37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2E3CD-1A6A-4AAE-B358-C10E68F6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29C2A-BD60-46AF-9C9D-93333207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21DCD-7B9B-4B6B-A078-1E6A506A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EA7FD-3C37-4E62-950D-89AFB548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BBD7C-EFB3-469E-BCD2-D4D5B66A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F593B-7123-404F-8682-3B4FE8A5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34EA1-4688-484E-93C1-7C2D3525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70AD7-2AFF-4886-8BA0-3EC54130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7572-70EB-491D-8E76-55F28083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92744-3454-4576-AD6C-BB043C2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F75C1-0C57-46F0-A838-7B5B603D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3F16A-879B-4BF8-B59A-92B3D078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8A48B-3DDD-4F5D-BDF3-D898FFDE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3101E-55A6-41A3-B4D0-2C2BFB09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9A70-F529-43BD-B74D-1B027C68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9655-E373-4F4B-A2B5-6CEE8C61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7C65-8A54-4BEF-BD83-FE19C20A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506C-3CC0-46F7-9A1B-AF854BFA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0CC7-945D-40D7-A1E9-6CA6E7C5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4B5-4A19-46B5-8C37-A607E1AD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335C-F628-43E9-94E7-C35F48D5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9E3E-D9F6-4AA9-AE1F-0634FFB7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5AD9-69BC-4781-9679-2DF010D6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968A-4BA6-45A9-9607-8E27A5FE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FB17-87DB-48D9-8C59-A23B7C91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502FC-CF3E-405C-BA99-6D871753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E77A2-A877-4285-A5B8-12BF16B6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D852C-2822-404B-9234-1DDCDCA1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0762-61C0-46B2-90B0-116DAE2F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B441-0207-4985-881B-C9D6E16F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AD9-E780-469F-8F2C-FD791005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4E136-7472-4CE7-BEDA-1366248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8DDEE-C52B-4842-AFF1-17C62A82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2F91-C98D-4C8E-9722-40E306B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8CB9-0855-48CC-A83B-7ED17783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A6F0-6137-435C-9C17-E0B0EA29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8BF8B-3595-4650-9D99-BD6AA7C1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4947D-530D-4434-838A-0461492B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BB13E-ADEB-4A4F-8D94-30174DA6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F037-4CA3-4909-BF6D-D1C8F155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F733A-FF8C-454A-8B8C-04EEA37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999-E340-4600-8CB3-C5DD8C30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A9687-AABE-414A-8E88-579D9F16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690B-9C7D-4AA6-A206-E37C3AF1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11E7B-8642-43A5-A147-E9BB0DE6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110E-3B13-46A0-8D54-B36E8356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6BFF-0DBE-4EC0-961D-82AFBC72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0EF96-7FF4-4F03-A55B-59C0D2FD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6C64-E7A6-4C53-B7F2-257D2F96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2CA06-B049-4140-895C-02A79B11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9342-234A-490A-936E-39CA87B5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6750B-BEF8-4C43-9048-0A33FE81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B92-E137-4788-A33B-B13FFAAC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92756-07EE-4CE1-9F37-A83AC9A9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FB432-6926-40C6-8654-73104ABE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2362-95E6-47C8-A003-5F35CC24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987EF-E840-4F69-B063-8E06BCE3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CBD5F-A9B5-4869-A66D-B66911C7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04C02-9DBB-45AF-87C0-035F9F4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7DC2C-F2F4-49B1-AE90-A0F8E8A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E327B-234A-4A6D-8321-280848BB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D2683-282A-464D-9EC7-A7E2D1FB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4373B-4D40-4C9D-B591-6AAAB726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9FA-5857-4DB2-9168-DF23603A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C8EB0-6B13-44FD-BB00-D0E17C2B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D4F6B-CE09-4B8B-9075-FE21AB8F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B7790-D2CE-45DA-86BE-C4CAABD8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7298A-54A2-4637-A2D3-88D1D2D7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D9341-9800-460C-B51E-7D8242B0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C9553-1ECA-4584-9D09-F8610662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F7B81-62C7-417B-BD1C-6AB59CB1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2D0FD-4176-4368-9BAE-5DEB2650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9F261-57FA-48DD-B260-563B0E35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353CF-ECFE-4686-8176-3874FD25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360-8843-4F52-97C4-B3927116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910CB-FDE2-49B4-A621-3896D010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B57E3-57F0-411D-8865-AAE715C8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C1C38-0EDE-43E5-8F61-C9643E87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5A7FD-26F7-40E3-8FEF-E02A78C6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CDAA3-D845-42D3-BA9C-560DF12C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F2D42-9807-40C3-B6B1-5E9EDEA8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84AFF-6980-48B4-B782-CF1C6415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B349E-180D-420D-9B8C-31BDCDB2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B7319-3A9F-4D51-AB4D-31FBA009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0D789-127E-43E7-BB34-72147E6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09A-DCE0-425F-BC8B-0F58E0DF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56EBC-2099-40F4-BAFF-B8699292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AE0C8-3A9F-40B6-AB2C-40110888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DF984-774F-4681-B57D-C76BD8E7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C7599-1146-47C9-B345-0768BDF7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3DB4B-4743-4D2C-84D7-3C61D409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4883C-FE53-4731-8577-942A36E7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B5535-7E91-492E-9751-F20E99F8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B9F1E-B44C-460C-A04F-52D6C5BC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158D1-6B8D-42F0-BA81-8C77B89A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F7230-4F9A-4D73-9260-0D72DA95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2CE-FED2-46EB-8459-6433CBD7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7B0EA-670E-4329-BA53-4A44E2CE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2870E-A691-495C-83BB-EB146DCD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913DC-A312-4026-AC73-6D5BA886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61A8E-7450-4C58-923F-8D57FE97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F7526-73BB-4674-BABF-81702193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FA6F4-18ED-4171-A111-B54F5B53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BD95D-B4E1-4B56-BFCA-3C6E6022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15748-286D-4E82-ABA2-085DBDF5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4C03B-8FDA-4330-A574-A120EBEB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7EE7C-1A98-45BE-9EB5-480CAF68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1211-9CCA-4F09-9F22-5CB6DD243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D369-14C0-4B8C-AE43-D0ECA8EA7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5A0B-6204-43EC-AF7D-FD7414091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8EAC-1A76-4B99-A5D0-5B03324D9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943D-3945-4367-AA6A-6046DFF1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1C62-0797-4EC0-BB0C-C5F030D11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9566-AF42-4037-825A-69BDA5A7E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847F-23AA-4200-88AD-C84DE6139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C3BC-2E4F-4191-8070-B8CF50D89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B68E-0082-42C0-AE68-179601910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283D-ED03-45D8-A528-E0A2888FC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6A78-8F7A-4B11-9B72-1C46F89E5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3.xml"/><Relationship Id="rId13" Type="http://schemas.openxmlformats.org/officeDocument/2006/relationships/slide" Target="slide34.xml"/><Relationship Id="rId14" Type="http://schemas.openxmlformats.org/officeDocument/2006/relationships/slide" Target=""/><Relationship Id="rId15" Type="http://schemas.openxmlformats.org/officeDocument/2006/relationships/slide" Target="slide35.xml"/><Relationship Id="rId16" Type="http://schemas.openxmlformats.org/officeDocument/2006/relationships/slide" Target=""/><Relationship Id="rId17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онституция и 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>
            <a:hlinkClick r:id="rId1" action="ppaction://hlinksldjump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595520" y="493560"/>
            <a:ext cx="68562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31459c"/>
                </a:solidFill>
                <a:latin typeface="Arial"/>
              </a:rPr>
              <a:t>Когда  была прин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Конституция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6">
            <a:hlinkClick r:id="rId1"/>
          </p:cNvPr>
          <p:cNvSpPr/>
          <p:nvPr/>
        </p:nvSpPr>
        <p:spPr>
          <a:xfrm>
            <a:off x="1909800" y="2732040"/>
            <a:ext cx="1681200" cy="1042920"/>
          </a:xfrm>
          <a:custGeom>
            <a:avLst/>
            <a:gdLst>
              <a:gd name="textAreaLeft" fmla="*/ 67320 w 1681200"/>
              <a:gd name="textAreaRight" fmla="*/ 1613880 w 16812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4815" h="21600">
                <a:moveTo>
                  <a:pt x="0" y="0"/>
                </a:moveTo>
                <a:lnTo>
                  <a:pt x="34815" y="0"/>
                </a:lnTo>
                <a:lnTo>
                  <a:pt x="34815" y="21600"/>
                </a:lnTo>
                <a:lnTo>
                  <a:pt x="0" y="21600"/>
                </a:lnTo>
                <a:close/>
              </a:path>
              <a:path fill="lightenLess" w="34815" h="21600">
                <a:moveTo>
                  <a:pt x="0" y="0"/>
                </a:moveTo>
                <a:lnTo>
                  <a:pt x="34815" y="0"/>
                </a:lnTo>
                <a:lnTo>
                  <a:pt x="33415" y="1400"/>
                </a:lnTo>
                <a:lnTo>
                  <a:pt x="1400" y="1400"/>
                </a:lnTo>
                <a:close/>
              </a:path>
              <a:path fill="darken" w="34815" h="21600">
                <a:moveTo>
                  <a:pt x="34815" y="0"/>
                </a:moveTo>
                <a:lnTo>
                  <a:pt x="34815" y="21600"/>
                </a:lnTo>
                <a:lnTo>
                  <a:pt x="33415" y="20200"/>
                </a:lnTo>
                <a:lnTo>
                  <a:pt x="33415" y="1400"/>
                </a:lnTo>
                <a:close/>
              </a:path>
              <a:path fill="darkenLess" w="34815" h="21600">
                <a:moveTo>
                  <a:pt x="34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5" y="20200"/>
                </a:lnTo>
                <a:close/>
              </a:path>
              <a:path fill="lighten" w="34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1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9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7">
            <a:hlinkClick r:id="rId2"/>
          </p:cNvPr>
          <p:cNvSpPr/>
          <p:nvPr/>
        </p:nvSpPr>
        <p:spPr>
          <a:xfrm>
            <a:off x="3706920" y="3943440"/>
            <a:ext cx="1719000" cy="1042920"/>
          </a:xfrm>
          <a:custGeom>
            <a:avLst/>
            <a:gdLst>
              <a:gd name="textAreaLeft" fmla="*/ 67320 w 1719000"/>
              <a:gd name="textAreaRight" fmla="*/ 1651680 w 1719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5598" h="21600">
                <a:moveTo>
                  <a:pt x="0" y="0"/>
                </a:moveTo>
                <a:lnTo>
                  <a:pt x="35598" y="0"/>
                </a:lnTo>
                <a:lnTo>
                  <a:pt x="35598" y="21600"/>
                </a:lnTo>
                <a:lnTo>
                  <a:pt x="0" y="21600"/>
                </a:lnTo>
                <a:close/>
              </a:path>
              <a:path fill="lightenLess" w="35598" h="21600">
                <a:moveTo>
                  <a:pt x="0" y="0"/>
                </a:moveTo>
                <a:lnTo>
                  <a:pt x="35598" y="0"/>
                </a:lnTo>
                <a:lnTo>
                  <a:pt x="34198" y="1400"/>
                </a:lnTo>
                <a:lnTo>
                  <a:pt x="1400" y="1400"/>
                </a:lnTo>
                <a:close/>
              </a:path>
              <a:path fill="darken" w="35598" h="21600">
                <a:moveTo>
                  <a:pt x="35598" y="0"/>
                </a:moveTo>
                <a:lnTo>
                  <a:pt x="35598" y="21600"/>
                </a:lnTo>
                <a:lnTo>
                  <a:pt x="34198" y="20200"/>
                </a:lnTo>
                <a:lnTo>
                  <a:pt x="34198" y="1400"/>
                </a:lnTo>
                <a:close/>
              </a:path>
              <a:path fill="darkenLess" w="35598" h="21600">
                <a:moveTo>
                  <a:pt x="35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8" y="20200"/>
                </a:lnTo>
                <a:close/>
              </a:path>
              <a:path fill="lighten" w="35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9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">
            <a:hlinkClick r:id="rId3"/>
          </p:cNvPr>
          <p:cNvSpPr/>
          <p:nvPr/>
        </p:nvSpPr>
        <p:spPr>
          <a:xfrm>
            <a:off x="6026040" y="4929120"/>
            <a:ext cx="1710000" cy="1042920"/>
          </a:xfrm>
          <a:custGeom>
            <a:avLst/>
            <a:gdLst>
              <a:gd name="textAreaLeft" fmla="*/ 67320 w 1710000"/>
              <a:gd name="textAreaRight" fmla="*/ 1642680 w 171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5411" h="21600">
                <a:moveTo>
                  <a:pt x="0" y="0"/>
                </a:moveTo>
                <a:lnTo>
                  <a:pt x="35411" y="0"/>
                </a:lnTo>
                <a:lnTo>
                  <a:pt x="35411" y="21600"/>
                </a:lnTo>
                <a:lnTo>
                  <a:pt x="0" y="21600"/>
                </a:lnTo>
                <a:close/>
              </a:path>
              <a:path fill="lightenLess" w="35411" h="21600">
                <a:moveTo>
                  <a:pt x="0" y="0"/>
                </a:moveTo>
                <a:lnTo>
                  <a:pt x="35411" y="0"/>
                </a:lnTo>
                <a:lnTo>
                  <a:pt x="34011" y="1400"/>
                </a:lnTo>
                <a:lnTo>
                  <a:pt x="1400" y="1400"/>
                </a:lnTo>
                <a:close/>
              </a:path>
              <a:path fill="darken" w="35411" h="21600">
                <a:moveTo>
                  <a:pt x="35411" y="0"/>
                </a:moveTo>
                <a:lnTo>
                  <a:pt x="35411" y="21600"/>
                </a:lnTo>
                <a:lnTo>
                  <a:pt x="34011" y="20200"/>
                </a:lnTo>
                <a:lnTo>
                  <a:pt x="34011" y="1400"/>
                </a:lnTo>
                <a:close/>
              </a:path>
              <a:path fill="darkenLess" w="35411" h="21600">
                <a:moveTo>
                  <a:pt x="3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11" y="20200"/>
                </a:lnTo>
                <a:close/>
              </a:path>
              <a:path fill="lighten" w="3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0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946080" y="922320"/>
            <a:ext cx="984888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Конститу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была при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           </a:t>
            </a: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12 декабр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             </a:t>
            </a: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1993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Нарушили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алёнушка.avi" descr=""/>
          <p:cNvPicPr/>
          <p:nvPr/>
        </p:nvPicPr>
        <p:blipFill>
          <a:blip r:embed="rId1"/>
          <a:stretch/>
        </p:blipFill>
        <p:spPr>
          <a:xfrm>
            <a:off x="647640" y="306360"/>
            <a:ext cx="7391520" cy="5913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3520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1062000" y="325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2190600" y="1527120"/>
            <a:ext cx="53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атья 22  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987480" y="2666880"/>
            <a:ext cx="82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имеет право на свободу и личную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икосно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ест, заключение под стражу и содерж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стражей возможно только по реш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золушка.avi" descr=""/>
          <p:cNvPicPr/>
          <p:nvPr/>
        </p:nvPicPr>
        <p:blipFill>
          <a:blip r:embed="rId1"/>
          <a:stretch/>
        </p:blipFill>
        <p:spPr>
          <a:xfrm>
            <a:off x="809640" y="782640"/>
            <a:ext cx="7286760" cy="5829120"/>
          </a:xfrm>
          <a:prstGeom prst="rect">
            <a:avLst/>
          </a:prstGeom>
          <a:ln w="0">
            <a:noFill/>
          </a:ln>
        </p:spPr>
      </p:pic>
      <p:sp>
        <p:nvSpPr>
          <p:cNvPr id="565" name="TextBox 3"/>
          <p:cNvSpPr/>
          <p:nvPr/>
        </p:nvSpPr>
        <p:spPr>
          <a:xfrm>
            <a:off x="1566720" y="5864400"/>
            <a:ext cx="502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/ф «Золушка»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67120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019160" y="774720"/>
            <a:ext cx="7488360" cy="574200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828800" y="152712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атья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1219320" y="23400"/>
            <a:ext cx="701028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руд свободен. Каждый имеет право свободно распоряжаться своими спосо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труду, выбирать род деятельности и професс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нудительный труд запрещ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маша и медведь.mp4" descr=""/>
          <p:cNvPicPr/>
          <p:nvPr/>
        </p:nvPicPr>
        <p:blipFill>
          <a:blip r:embed="rId1"/>
          <a:stretch/>
        </p:blipFill>
        <p:spPr>
          <a:xfrm>
            <a:off x="492120" y="469800"/>
            <a:ext cx="7846920" cy="5843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1360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874800" y="334800"/>
            <a:ext cx="7488000" cy="628524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176560" y="1049400"/>
            <a:ext cx="55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атья 25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77920" y="2046240"/>
            <a:ext cx="71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ище неприкосновенно. Никто не вправе проникать в жилище против воли проживающих в нём 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аче как в случаях, установленных федеральным законом или на основании судебного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/>
          <p:cNvSpPr/>
          <p:nvPr/>
        </p:nvSpPr>
        <p:spPr>
          <a:xfrm>
            <a:off x="7858080" y="5695920"/>
            <a:ext cx="852480" cy="814320"/>
          </a:xfrm>
          <a:custGeom>
            <a:avLst/>
            <a:gdLst>
              <a:gd name="textAreaLeft" fmla="*/ 52560 w 852480"/>
              <a:gd name="textAreaRight" fmla="*/ 799920 w 8524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4299" y="7493"/>
                </a:moveTo>
                <a:lnTo>
                  <a:pt x="7807" y="7493"/>
                </a:lnTo>
                <a:lnTo>
                  <a:pt x="7807" y="12828"/>
                </a:lnTo>
                <a:cubicBezTo>
                  <a:pt x="7807" y="13751"/>
                  <a:pt x="8608" y="14482"/>
                  <a:pt x="9643" y="14482"/>
                </a:cubicBezTo>
                <a:lnTo>
                  <a:pt x="11306" y="14482"/>
                </a:lnTo>
                <a:cubicBezTo>
                  <a:pt x="12342" y="14482"/>
                  <a:pt x="13142" y="13751"/>
                  <a:pt x="13142" y="12828"/>
                </a:cubicBezTo>
                <a:lnTo>
                  <a:pt x="13142" y="7493"/>
                </a:lnTo>
                <a:lnTo>
                  <a:pt x="11306" y="7493"/>
                </a:lnTo>
                <a:lnTo>
                  <a:pt x="14813" y="3985"/>
                </a:lnTo>
                <a:lnTo>
                  <a:pt x="18486" y="7493"/>
                </a:lnTo>
                <a:lnTo>
                  <a:pt x="16650" y="7493"/>
                </a:lnTo>
                <a:lnTo>
                  <a:pt x="16650" y="12828"/>
                </a:lnTo>
                <a:cubicBezTo>
                  <a:pt x="16650" y="15596"/>
                  <a:pt x="14074" y="18155"/>
                  <a:pt x="11306" y="18155"/>
                </a:cubicBezTo>
                <a:lnTo>
                  <a:pt x="9643" y="18155"/>
                </a:lnTo>
                <a:cubicBezTo>
                  <a:pt x="6876" y="18155"/>
                  <a:pt x="4299" y="15596"/>
                  <a:pt x="429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иванушка.avi" descr=""/>
          <p:cNvPicPr/>
          <p:nvPr/>
        </p:nvPicPr>
        <p:blipFill>
          <a:blip r:embed="rId1"/>
          <a:stretch/>
        </p:blipFill>
        <p:spPr>
          <a:xfrm>
            <a:off x="905040" y="465120"/>
            <a:ext cx="7372080" cy="5897520"/>
          </a:xfrm>
          <a:prstGeom prst="rect">
            <a:avLst/>
          </a:prstGeom>
          <a:ln w="0">
            <a:noFill/>
          </a:ln>
        </p:spPr>
      </p:pic>
      <p:sp>
        <p:nvSpPr>
          <p:cNvPr id="575" name="AutoShape 5">
            <a:hlinkClick r:id="rId2"/>
          </p:cNvPr>
          <p:cNvSpPr/>
          <p:nvPr/>
        </p:nvSpPr>
        <p:spPr>
          <a:xfrm>
            <a:off x="8358120" y="6019920"/>
            <a:ext cx="785880" cy="699840"/>
          </a:xfrm>
          <a:custGeom>
            <a:avLst/>
            <a:gdLst>
              <a:gd name="textAreaLeft" fmla="*/ 45360 w 785880"/>
              <a:gd name="textAreaRight" fmla="*/ 740520 w 785880"/>
              <a:gd name="textAreaTop" fmla="*/ 45360 h 699840"/>
              <a:gd name="textAreaBottom" fmla="*/ 654480 h 699840"/>
            </a:gdLst>
            <a:ahLst/>
            <a:rect l="textAreaLeft" t="textAreaTop" r="textAreaRight" b="textAreaBottom"/>
            <a:pathLst>
              <a:path w="24254" h="21600">
                <a:moveTo>
                  <a:pt x="0" y="0"/>
                </a:moveTo>
                <a:lnTo>
                  <a:pt x="24254" y="0"/>
                </a:lnTo>
                <a:lnTo>
                  <a:pt x="24254" y="21600"/>
                </a:lnTo>
                <a:lnTo>
                  <a:pt x="0" y="21600"/>
                </a:lnTo>
                <a:close/>
              </a:path>
              <a:path fill="lightenLess" w="24254" h="21600">
                <a:moveTo>
                  <a:pt x="0" y="0"/>
                </a:moveTo>
                <a:lnTo>
                  <a:pt x="24254" y="0"/>
                </a:lnTo>
                <a:lnTo>
                  <a:pt x="22854" y="1400"/>
                </a:lnTo>
                <a:lnTo>
                  <a:pt x="1400" y="1400"/>
                </a:lnTo>
                <a:close/>
              </a:path>
              <a:path fill="darken" w="24254" h="21600">
                <a:moveTo>
                  <a:pt x="24254" y="0"/>
                </a:moveTo>
                <a:lnTo>
                  <a:pt x="24254" y="21600"/>
                </a:lnTo>
                <a:lnTo>
                  <a:pt x="22854" y="20200"/>
                </a:lnTo>
                <a:lnTo>
                  <a:pt x="22854" y="1400"/>
                </a:lnTo>
                <a:close/>
              </a:path>
              <a:path fill="darkenLess" w="24254" h="21600">
                <a:moveTo>
                  <a:pt x="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54" y="20200"/>
                </a:lnTo>
                <a:close/>
              </a:path>
              <a:path fill="lighten" w="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54" h="21600">
                <a:moveTo>
                  <a:pt x="5121" y="3794"/>
                </a:moveTo>
                <a:lnTo>
                  <a:pt x="19134" y="10800"/>
                </a:lnTo>
                <a:lnTo>
                  <a:pt x="5121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51360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2"/>
          <p:cNvSpPr/>
          <p:nvPr/>
        </p:nvSpPr>
        <p:spPr>
          <a:xfrm>
            <a:off x="871560" y="297000"/>
            <a:ext cx="74595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306440" y="2647800"/>
          <a:ext cx="5388120" cy="3133800"/>
        </p:xfrm>
        <a:graphic>
          <a:graphicData uri="http://schemas.openxmlformats.org/drawingml/2006/table">
            <a:tbl>
              <a:tblPr/>
              <a:tblGrid>
                <a:gridCol w="1719360"/>
                <a:gridCol w="936720"/>
                <a:gridCol w="919080"/>
                <a:gridCol w="825480"/>
                <a:gridCol w="98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Прос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Нарушили 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Обяза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Символ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AutoShape 69">
            <a:hlinkClick r:id="rId1" action="ppaction://hlinksldjump"/>
          </p:cNvPr>
          <p:cNvSpPr/>
          <p:nvPr/>
        </p:nvSpPr>
        <p:spPr>
          <a:xfrm>
            <a:off x="3156120" y="2658960"/>
            <a:ext cx="652320" cy="642960"/>
          </a:xfrm>
          <a:custGeom>
            <a:avLst/>
            <a:gdLst>
              <a:gd name="textAreaLeft" fmla="*/ 41400 w 652320"/>
              <a:gd name="textAreaRight" fmla="*/ 610920 w 6523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914" h="21600">
                <a:moveTo>
                  <a:pt x="0" y="0"/>
                </a:moveTo>
                <a:lnTo>
                  <a:pt x="21914" y="0"/>
                </a:lnTo>
                <a:lnTo>
                  <a:pt x="21914" y="21600"/>
                </a:lnTo>
                <a:lnTo>
                  <a:pt x="0" y="21600"/>
                </a:lnTo>
                <a:close/>
              </a:path>
              <a:path fill="lightenLess" w="21914" h="21600">
                <a:moveTo>
                  <a:pt x="0" y="0"/>
                </a:moveTo>
                <a:lnTo>
                  <a:pt x="21914" y="0"/>
                </a:lnTo>
                <a:lnTo>
                  <a:pt x="20514" y="1400"/>
                </a:lnTo>
                <a:lnTo>
                  <a:pt x="1400" y="1400"/>
                </a:lnTo>
                <a:close/>
              </a:path>
              <a:path fill="darken" w="21914" h="21600">
                <a:moveTo>
                  <a:pt x="21914" y="0"/>
                </a:moveTo>
                <a:lnTo>
                  <a:pt x="21914" y="21600"/>
                </a:lnTo>
                <a:lnTo>
                  <a:pt x="20514" y="20200"/>
                </a:lnTo>
                <a:lnTo>
                  <a:pt x="20514" y="1400"/>
                </a:lnTo>
                <a:close/>
              </a:path>
              <a:path fill="darkenLess" w="21914" h="21600">
                <a:moveTo>
                  <a:pt x="21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4" y="20200"/>
                </a:lnTo>
                <a:close/>
              </a:path>
              <a:path fill="lighten" w="21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71">
            <a:hlinkClick r:id="rId2" action="ppaction://hlinksldjump"/>
          </p:cNvPr>
          <p:cNvSpPr/>
          <p:nvPr/>
        </p:nvSpPr>
        <p:spPr>
          <a:xfrm>
            <a:off x="4086360" y="2678040"/>
            <a:ext cx="699840" cy="604800"/>
          </a:xfrm>
          <a:custGeom>
            <a:avLst/>
            <a:gdLst>
              <a:gd name="textAreaLeft" fmla="*/ 38880 w 699840"/>
              <a:gd name="textAreaRight" fmla="*/ 660960 w 69984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4992" h="21600">
                <a:moveTo>
                  <a:pt x="0" y="0"/>
                </a:moveTo>
                <a:lnTo>
                  <a:pt x="24992" y="0"/>
                </a:lnTo>
                <a:lnTo>
                  <a:pt x="24992" y="21600"/>
                </a:lnTo>
                <a:lnTo>
                  <a:pt x="0" y="21600"/>
                </a:lnTo>
                <a:close/>
              </a:path>
              <a:path fill="lightenLess" w="24992" h="21600">
                <a:moveTo>
                  <a:pt x="0" y="0"/>
                </a:moveTo>
                <a:lnTo>
                  <a:pt x="24992" y="0"/>
                </a:lnTo>
                <a:lnTo>
                  <a:pt x="23592" y="1400"/>
                </a:lnTo>
                <a:lnTo>
                  <a:pt x="1400" y="1400"/>
                </a:lnTo>
                <a:close/>
              </a:path>
              <a:path fill="darken" w="24992" h="21600">
                <a:moveTo>
                  <a:pt x="24992" y="0"/>
                </a:moveTo>
                <a:lnTo>
                  <a:pt x="24992" y="21600"/>
                </a:lnTo>
                <a:lnTo>
                  <a:pt x="23592" y="20200"/>
                </a:lnTo>
                <a:lnTo>
                  <a:pt x="23592" y="1400"/>
                </a:lnTo>
                <a:close/>
              </a:path>
              <a:path fill="darkenLess" w="24992" h="21600">
                <a:moveTo>
                  <a:pt x="24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2" y="20200"/>
                </a:lnTo>
                <a:close/>
              </a:path>
              <a:path fill="lighten" w="24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2">
            <a:hlinkClick r:id="rId3" action="ppaction://hlinksldjump"/>
          </p:cNvPr>
          <p:cNvSpPr/>
          <p:nvPr/>
        </p:nvSpPr>
        <p:spPr>
          <a:xfrm>
            <a:off x="3152880" y="3429000"/>
            <a:ext cx="718920" cy="623880"/>
          </a:xfrm>
          <a:custGeom>
            <a:avLst/>
            <a:gdLst>
              <a:gd name="textAreaLeft" fmla="*/ 40320 w 718920"/>
              <a:gd name="textAreaRight" fmla="*/ 678600 w 71892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4889" h="21600">
                <a:moveTo>
                  <a:pt x="0" y="0"/>
                </a:moveTo>
                <a:lnTo>
                  <a:pt x="24889" y="0"/>
                </a:lnTo>
                <a:lnTo>
                  <a:pt x="24889" y="21600"/>
                </a:lnTo>
                <a:lnTo>
                  <a:pt x="0" y="21600"/>
                </a:lnTo>
                <a:close/>
              </a:path>
              <a:path fill="lightenLess" w="24889" h="21600">
                <a:moveTo>
                  <a:pt x="0" y="0"/>
                </a:moveTo>
                <a:lnTo>
                  <a:pt x="24889" y="0"/>
                </a:lnTo>
                <a:lnTo>
                  <a:pt x="23489" y="1400"/>
                </a:lnTo>
                <a:lnTo>
                  <a:pt x="1400" y="1400"/>
                </a:lnTo>
                <a:close/>
              </a:path>
              <a:path fill="darken" w="24889" h="21600">
                <a:moveTo>
                  <a:pt x="24889" y="0"/>
                </a:moveTo>
                <a:lnTo>
                  <a:pt x="24889" y="21600"/>
                </a:lnTo>
                <a:lnTo>
                  <a:pt x="23489" y="20200"/>
                </a:lnTo>
                <a:lnTo>
                  <a:pt x="23489" y="1400"/>
                </a:lnTo>
                <a:close/>
              </a:path>
              <a:path fill="darkenLess" w="24889" h="21600">
                <a:moveTo>
                  <a:pt x="24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9" y="20200"/>
                </a:lnTo>
                <a:close/>
              </a:path>
              <a:path fill="lighten" w="24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4">
            <a:hlinkClick r:id="rId4" action="ppaction://hlinksldjump"/>
          </p:cNvPr>
          <p:cNvSpPr/>
          <p:nvPr/>
        </p:nvSpPr>
        <p:spPr>
          <a:xfrm>
            <a:off x="4057560" y="3429000"/>
            <a:ext cx="709560" cy="604800"/>
          </a:xfrm>
          <a:custGeom>
            <a:avLst/>
            <a:gdLst>
              <a:gd name="textAreaLeft" fmla="*/ 38880 w 709560"/>
              <a:gd name="textAreaRight" fmla="*/ 670680 w 70956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5339" h="21600">
                <a:moveTo>
                  <a:pt x="0" y="0"/>
                </a:moveTo>
                <a:lnTo>
                  <a:pt x="25339" y="0"/>
                </a:lnTo>
                <a:lnTo>
                  <a:pt x="25339" y="21600"/>
                </a:lnTo>
                <a:lnTo>
                  <a:pt x="0" y="21600"/>
                </a:lnTo>
                <a:close/>
              </a:path>
              <a:path fill="lightenLess" w="25339" h="21600">
                <a:moveTo>
                  <a:pt x="0" y="0"/>
                </a:moveTo>
                <a:lnTo>
                  <a:pt x="25339" y="0"/>
                </a:lnTo>
                <a:lnTo>
                  <a:pt x="23939" y="1400"/>
                </a:lnTo>
                <a:lnTo>
                  <a:pt x="1400" y="1400"/>
                </a:lnTo>
                <a:close/>
              </a:path>
              <a:path fill="darken" w="25339" h="21600">
                <a:moveTo>
                  <a:pt x="25339" y="0"/>
                </a:moveTo>
                <a:lnTo>
                  <a:pt x="25339" y="21600"/>
                </a:lnTo>
                <a:lnTo>
                  <a:pt x="23939" y="20200"/>
                </a:lnTo>
                <a:lnTo>
                  <a:pt x="23939" y="1400"/>
                </a:lnTo>
                <a:close/>
              </a:path>
              <a:path fill="darkenLess" w="25339" h="21600">
                <a:moveTo>
                  <a:pt x="25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9" y="20200"/>
                </a:lnTo>
                <a:close/>
              </a:path>
              <a:path fill="lighten" w="25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6">
            <a:hlinkClick r:id="rId5" action="ppaction://hlinksldjump"/>
          </p:cNvPr>
          <p:cNvSpPr/>
          <p:nvPr/>
        </p:nvSpPr>
        <p:spPr>
          <a:xfrm>
            <a:off x="4978440" y="3395520"/>
            <a:ext cx="679320" cy="673200"/>
          </a:xfrm>
          <a:custGeom>
            <a:avLst/>
            <a:gdLst>
              <a:gd name="textAreaLeft" fmla="*/ 43560 w 679320"/>
              <a:gd name="textAreaRight" fmla="*/ 635760 w 679320"/>
              <a:gd name="textAreaTop" fmla="*/ 43560 h 673200"/>
              <a:gd name="textAreaBottom" fmla="*/ 629640 h 673200"/>
            </a:gdLst>
            <a:ahLst/>
            <a:rect l="textAreaLeft" t="textAreaTop" r="textAreaRight" b="textAreaBottom"/>
            <a:pathLst>
              <a:path w="21796" h="21600">
                <a:moveTo>
                  <a:pt x="0" y="0"/>
                </a:moveTo>
                <a:lnTo>
                  <a:pt x="21796" y="0"/>
                </a:lnTo>
                <a:lnTo>
                  <a:pt x="21796" y="21600"/>
                </a:lnTo>
                <a:lnTo>
                  <a:pt x="0" y="21600"/>
                </a:lnTo>
                <a:close/>
              </a:path>
              <a:path fill="lightenLess" w="21796" h="21600">
                <a:moveTo>
                  <a:pt x="0" y="0"/>
                </a:moveTo>
                <a:lnTo>
                  <a:pt x="21796" y="0"/>
                </a:lnTo>
                <a:lnTo>
                  <a:pt x="20396" y="1400"/>
                </a:lnTo>
                <a:lnTo>
                  <a:pt x="1400" y="1400"/>
                </a:lnTo>
                <a:close/>
              </a:path>
              <a:path fill="darken" w="21796" h="21600">
                <a:moveTo>
                  <a:pt x="21796" y="0"/>
                </a:moveTo>
                <a:lnTo>
                  <a:pt x="21796" y="21600"/>
                </a:lnTo>
                <a:lnTo>
                  <a:pt x="20396" y="20200"/>
                </a:lnTo>
                <a:lnTo>
                  <a:pt x="20396" y="1400"/>
                </a:lnTo>
                <a:close/>
              </a:path>
              <a:path fill="darkenLess" w="21796" h="21600">
                <a:moveTo>
                  <a:pt x="21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96" y="20200"/>
                </a:lnTo>
                <a:close/>
              </a:path>
              <a:path fill="lighten" w="21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78">
            <a:hlinkClick r:id="rId6" action="ppaction://hlinksldjump"/>
          </p:cNvPr>
          <p:cNvSpPr/>
          <p:nvPr/>
        </p:nvSpPr>
        <p:spPr>
          <a:xfrm>
            <a:off x="5848200" y="3433680"/>
            <a:ext cx="652680" cy="644760"/>
          </a:xfrm>
          <a:custGeom>
            <a:avLst/>
            <a:gdLst>
              <a:gd name="textAreaLeft" fmla="*/ 41760 w 652680"/>
              <a:gd name="textAreaRight" fmla="*/ 610920 w 652680"/>
              <a:gd name="textAreaTop" fmla="*/ 41760 h 644760"/>
              <a:gd name="textAreaBottom" fmla="*/ 603000 h 644760"/>
            </a:gdLst>
            <a:ahLst/>
            <a:rect l="textAreaLeft" t="textAreaTop" r="textAreaRight" b="textAreaBottom"/>
            <a:pathLst>
              <a:path w="21865" h="21600">
                <a:moveTo>
                  <a:pt x="0" y="0"/>
                </a:moveTo>
                <a:lnTo>
                  <a:pt x="21865" y="0"/>
                </a:lnTo>
                <a:lnTo>
                  <a:pt x="21865" y="21600"/>
                </a:lnTo>
                <a:lnTo>
                  <a:pt x="0" y="21600"/>
                </a:lnTo>
                <a:close/>
              </a:path>
              <a:path fill="lightenLess" w="21865" h="21600">
                <a:moveTo>
                  <a:pt x="0" y="0"/>
                </a:moveTo>
                <a:lnTo>
                  <a:pt x="21865" y="0"/>
                </a:lnTo>
                <a:lnTo>
                  <a:pt x="20465" y="1400"/>
                </a:lnTo>
                <a:lnTo>
                  <a:pt x="1400" y="1400"/>
                </a:lnTo>
                <a:close/>
              </a:path>
              <a:path fill="darken" w="21865" h="21600">
                <a:moveTo>
                  <a:pt x="21865" y="0"/>
                </a:moveTo>
                <a:lnTo>
                  <a:pt x="21865" y="21600"/>
                </a:lnTo>
                <a:lnTo>
                  <a:pt x="20465" y="20200"/>
                </a:lnTo>
                <a:lnTo>
                  <a:pt x="20465" y="1400"/>
                </a:lnTo>
                <a:close/>
              </a:path>
              <a:path fill="darkenLess" w="21865" h="21600">
                <a:moveTo>
                  <a:pt x="21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65" y="20200"/>
                </a:lnTo>
                <a:close/>
              </a:path>
              <a:path fill="lighten" w="21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81">
            <a:hlinkClick r:id="rId7" action="ppaction://hlinksldjump"/>
          </p:cNvPr>
          <p:cNvSpPr/>
          <p:nvPr/>
        </p:nvSpPr>
        <p:spPr>
          <a:xfrm>
            <a:off x="4948200" y="2649600"/>
            <a:ext cx="690480" cy="604800"/>
          </a:xfrm>
          <a:custGeom>
            <a:avLst/>
            <a:gdLst>
              <a:gd name="textAreaLeft" fmla="*/ 38880 w 690480"/>
              <a:gd name="textAreaRight" fmla="*/ 651600 w 69048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4658" h="21600">
                <a:moveTo>
                  <a:pt x="0" y="0"/>
                </a:moveTo>
                <a:lnTo>
                  <a:pt x="24658" y="0"/>
                </a:lnTo>
                <a:lnTo>
                  <a:pt x="24658" y="21600"/>
                </a:lnTo>
                <a:lnTo>
                  <a:pt x="0" y="21600"/>
                </a:lnTo>
                <a:close/>
              </a:path>
              <a:path fill="lightenLess" w="24658" h="21600">
                <a:moveTo>
                  <a:pt x="0" y="0"/>
                </a:moveTo>
                <a:lnTo>
                  <a:pt x="24658" y="0"/>
                </a:lnTo>
                <a:lnTo>
                  <a:pt x="23258" y="1400"/>
                </a:lnTo>
                <a:lnTo>
                  <a:pt x="1400" y="1400"/>
                </a:lnTo>
                <a:close/>
              </a:path>
              <a:path fill="darken" w="24658" h="21600">
                <a:moveTo>
                  <a:pt x="24658" y="0"/>
                </a:moveTo>
                <a:lnTo>
                  <a:pt x="24658" y="21600"/>
                </a:lnTo>
                <a:lnTo>
                  <a:pt x="23258" y="20200"/>
                </a:lnTo>
                <a:lnTo>
                  <a:pt x="23258" y="1400"/>
                </a:lnTo>
                <a:close/>
              </a:path>
              <a:path fill="darkenLess" w="24658" h="21600">
                <a:moveTo>
                  <a:pt x="24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8" y="20200"/>
                </a:lnTo>
                <a:close/>
              </a:path>
              <a:path fill="lighten" w="24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84">
            <a:hlinkClick r:id="rId8" action="ppaction://hlinksldjump"/>
          </p:cNvPr>
          <p:cNvSpPr/>
          <p:nvPr/>
        </p:nvSpPr>
        <p:spPr>
          <a:xfrm>
            <a:off x="3176640" y="4226040"/>
            <a:ext cx="700200" cy="662040"/>
          </a:xfrm>
          <a:custGeom>
            <a:avLst/>
            <a:gdLst>
              <a:gd name="textAreaLeft" fmla="*/ 42840 w 700200"/>
              <a:gd name="textAreaRight" fmla="*/ 657360 w 7002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844" h="21600">
                <a:moveTo>
                  <a:pt x="0" y="0"/>
                </a:moveTo>
                <a:lnTo>
                  <a:pt x="22844" y="0"/>
                </a:lnTo>
                <a:lnTo>
                  <a:pt x="22844" y="21600"/>
                </a:lnTo>
                <a:lnTo>
                  <a:pt x="0" y="21600"/>
                </a:lnTo>
                <a:close/>
              </a:path>
              <a:path fill="lightenLess" w="22844" h="21600">
                <a:moveTo>
                  <a:pt x="0" y="0"/>
                </a:moveTo>
                <a:lnTo>
                  <a:pt x="22844" y="0"/>
                </a:lnTo>
                <a:lnTo>
                  <a:pt x="21444" y="1400"/>
                </a:lnTo>
                <a:lnTo>
                  <a:pt x="1400" y="1400"/>
                </a:lnTo>
                <a:close/>
              </a:path>
              <a:path fill="darken" w="22844" h="21600">
                <a:moveTo>
                  <a:pt x="22844" y="0"/>
                </a:moveTo>
                <a:lnTo>
                  <a:pt x="22844" y="21600"/>
                </a:lnTo>
                <a:lnTo>
                  <a:pt x="21444" y="20200"/>
                </a:lnTo>
                <a:lnTo>
                  <a:pt x="21444" y="1400"/>
                </a:lnTo>
                <a:close/>
              </a:path>
              <a:path fill="darkenLess" w="22844" h="21600">
                <a:moveTo>
                  <a:pt x="22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4" y="20200"/>
                </a:lnTo>
                <a:close/>
              </a:path>
              <a:path fill="lighten" w="22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85">
            <a:hlinkClick r:id="rId9" action="ppaction://hlinksldjump"/>
          </p:cNvPr>
          <p:cNvSpPr/>
          <p:nvPr/>
        </p:nvSpPr>
        <p:spPr>
          <a:xfrm>
            <a:off x="4065480" y="4229280"/>
            <a:ext cx="700200" cy="661680"/>
          </a:xfrm>
          <a:custGeom>
            <a:avLst/>
            <a:gdLst>
              <a:gd name="textAreaLeft" fmla="*/ 42840 w 700200"/>
              <a:gd name="textAreaRight" fmla="*/ 657360 w 700200"/>
              <a:gd name="textAreaTop" fmla="*/ 42840 h 661680"/>
              <a:gd name="textAreaBottom" fmla="*/ 618840 h 661680"/>
            </a:gdLst>
            <a:ahLst/>
            <a:rect l="textAreaLeft" t="textAreaTop" r="textAreaRight" b="textAreaBottom"/>
            <a:pathLst>
              <a:path w="22857" h="21600">
                <a:moveTo>
                  <a:pt x="0" y="0"/>
                </a:moveTo>
                <a:lnTo>
                  <a:pt x="22857" y="0"/>
                </a:lnTo>
                <a:lnTo>
                  <a:pt x="22857" y="21600"/>
                </a:lnTo>
                <a:lnTo>
                  <a:pt x="0" y="21600"/>
                </a:lnTo>
                <a:close/>
              </a:path>
              <a:path fill="lightenLess" w="22857" h="21600">
                <a:moveTo>
                  <a:pt x="0" y="0"/>
                </a:moveTo>
                <a:lnTo>
                  <a:pt x="22857" y="0"/>
                </a:lnTo>
                <a:lnTo>
                  <a:pt x="21457" y="1400"/>
                </a:lnTo>
                <a:lnTo>
                  <a:pt x="1400" y="1400"/>
                </a:lnTo>
                <a:close/>
              </a:path>
              <a:path fill="darken" w="22857" h="21600">
                <a:moveTo>
                  <a:pt x="22857" y="0"/>
                </a:moveTo>
                <a:lnTo>
                  <a:pt x="22857" y="21600"/>
                </a:lnTo>
                <a:lnTo>
                  <a:pt x="21457" y="20200"/>
                </a:lnTo>
                <a:lnTo>
                  <a:pt x="21457" y="1400"/>
                </a:lnTo>
                <a:close/>
              </a:path>
              <a:path fill="darkenLess" w="22857" h="21600">
                <a:moveTo>
                  <a:pt x="22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7" y="20200"/>
                </a:lnTo>
                <a:close/>
              </a:path>
              <a:path fill="lighten" w="22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6">
            <a:hlinkClick r:id="rId10" action="ppaction://hlinksldjump"/>
          </p:cNvPr>
          <p:cNvSpPr/>
          <p:nvPr/>
        </p:nvSpPr>
        <p:spPr>
          <a:xfrm>
            <a:off x="4967280" y="4245120"/>
            <a:ext cx="652320" cy="645840"/>
          </a:xfrm>
          <a:custGeom>
            <a:avLst/>
            <a:gdLst>
              <a:gd name="textAreaLeft" fmla="*/ 41760 w 652320"/>
              <a:gd name="textAreaRight" fmla="*/ 610560 w 652320"/>
              <a:gd name="textAreaTop" fmla="*/ 41760 h 645840"/>
              <a:gd name="textAreaBottom" fmla="*/ 604080 h 645840"/>
            </a:gdLst>
            <a:ahLst/>
            <a:rect l="textAreaLeft" t="textAreaTop" r="textAreaRight" b="textAreaBottom"/>
            <a:pathLst>
              <a:path w="21817" h="21600">
                <a:moveTo>
                  <a:pt x="0" y="0"/>
                </a:moveTo>
                <a:lnTo>
                  <a:pt x="21817" y="0"/>
                </a:lnTo>
                <a:lnTo>
                  <a:pt x="21817" y="21600"/>
                </a:lnTo>
                <a:lnTo>
                  <a:pt x="0" y="21600"/>
                </a:lnTo>
                <a:close/>
              </a:path>
              <a:path fill="lightenLess" w="21817" h="21600">
                <a:moveTo>
                  <a:pt x="0" y="0"/>
                </a:moveTo>
                <a:lnTo>
                  <a:pt x="21817" y="0"/>
                </a:lnTo>
                <a:lnTo>
                  <a:pt x="20417" y="1400"/>
                </a:lnTo>
                <a:lnTo>
                  <a:pt x="1400" y="1400"/>
                </a:lnTo>
                <a:close/>
              </a:path>
              <a:path fill="darken" w="21817" h="21600">
                <a:moveTo>
                  <a:pt x="21817" y="0"/>
                </a:moveTo>
                <a:lnTo>
                  <a:pt x="21817" y="21600"/>
                </a:lnTo>
                <a:lnTo>
                  <a:pt x="20417" y="20200"/>
                </a:lnTo>
                <a:lnTo>
                  <a:pt x="20417" y="1400"/>
                </a:lnTo>
                <a:close/>
              </a:path>
              <a:path fill="darkenLess" w="21817" h="21600">
                <a:moveTo>
                  <a:pt x="21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7" y="20200"/>
                </a:lnTo>
                <a:close/>
              </a:path>
              <a:path fill="lighten" w="21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7">
            <a:hlinkClick r:id="rId11" action="ppaction://hlinksldjump"/>
          </p:cNvPr>
          <p:cNvSpPr/>
          <p:nvPr/>
        </p:nvSpPr>
        <p:spPr>
          <a:xfrm>
            <a:off x="5862600" y="4254480"/>
            <a:ext cx="681120" cy="650880"/>
          </a:xfrm>
          <a:custGeom>
            <a:avLst/>
            <a:gdLst>
              <a:gd name="textAreaLeft" fmla="*/ 42120 w 681120"/>
              <a:gd name="textAreaRight" fmla="*/ 639000 w 681120"/>
              <a:gd name="textAreaTop" fmla="*/ 42120 h 650880"/>
              <a:gd name="textAreaBottom" fmla="*/ 608760 h 650880"/>
            </a:gdLst>
            <a:ahLst/>
            <a:rect l="textAreaLeft" t="textAreaTop" r="textAreaRight" b="textAreaBottom"/>
            <a:pathLst>
              <a:path w="22603" h="21600">
                <a:moveTo>
                  <a:pt x="0" y="0"/>
                </a:moveTo>
                <a:lnTo>
                  <a:pt x="22603" y="0"/>
                </a:lnTo>
                <a:lnTo>
                  <a:pt x="22603" y="21600"/>
                </a:lnTo>
                <a:lnTo>
                  <a:pt x="0" y="21600"/>
                </a:lnTo>
                <a:close/>
              </a:path>
              <a:path fill="lightenLess" w="22603" h="21600">
                <a:moveTo>
                  <a:pt x="0" y="0"/>
                </a:moveTo>
                <a:lnTo>
                  <a:pt x="22603" y="0"/>
                </a:lnTo>
                <a:lnTo>
                  <a:pt x="21203" y="1400"/>
                </a:lnTo>
                <a:lnTo>
                  <a:pt x="1400" y="1400"/>
                </a:lnTo>
                <a:close/>
              </a:path>
              <a:path fill="darken" w="22603" h="21600">
                <a:moveTo>
                  <a:pt x="22603" y="0"/>
                </a:moveTo>
                <a:lnTo>
                  <a:pt x="22603" y="21600"/>
                </a:lnTo>
                <a:lnTo>
                  <a:pt x="21203" y="20200"/>
                </a:lnTo>
                <a:lnTo>
                  <a:pt x="21203" y="1400"/>
                </a:lnTo>
                <a:close/>
              </a:path>
              <a:path fill="darkenLess" w="22603" h="21600">
                <a:moveTo>
                  <a:pt x="22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3" y="20200"/>
                </a:lnTo>
                <a:close/>
              </a:path>
              <a:path fill="lighten" w="22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89">
            <a:hlinkClick r:id="rId12" action="ppaction://hlinksldjump"/>
          </p:cNvPr>
          <p:cNvSpPr/>
          <p:nvPr/>
        </p:nvSpPr>
        <p:spPr>
          <a:xfrm>
            <a:off x="3137040" y="503064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0">
            <a:hlinkClick r:id="rId13" action="ppaction://hlinksldjump"/>
          </p:cNvPr>
          <p:cNvSpPr/>
          <p:nvPr/>
        </p:nvSpPr>
        <p:spPr>
          <a:xfrm>
            <a:off x="4105440" y="5024520"/>
            <a:ext cx="738000" cy="652320"/>
          </a:xfrm>
          <a:custGeom>
            <a:avLst/>
            <a:gdLst>
              <a:gd name="textAreaLeft" fmla="*/ 42120 w 738000"/>
              <a:gd name="textAreaRight" fmla="*/ 695880 w 738000"/>
              <a:gd name="textAreaTop" fmla="*/ 42120 h 652320"/>
              <a:gd name="textAreaBottom" fmla="*/ 610200 h 652320"/>
            </a:gdLst>
            <a:ahLst/>
            <a:rect l="textAreaLeft" t="textAreaTop" r="textAreaRight" b="textAreaBottom"/>
            <a:pathLst>
              <a:path w="24436" h="21600">
                <a:moveTo>
                  <a:pt x="0" y="0"/>
                </a:moveTo>
                <a:lnTo>
                  <a:pt x="24436" y="0"/>
                </a:lnTo>
                <a:lnTo>
                  <a:pt x="24436" y="21600"/>
                </a:lnTo>
                <a:lnTo>
                  <a:pt x="0" y="21600"/>
                </a:lnTo>
                <a:close/>
              </a:path>
              <a:path fill="lightenLess" w="24436" h="21600">
                <a:moveTo>
                  <a:pt x="0" y="0"/>
                </a:moveTo>
                <a:lnTo>
                  <a:pt x="24436" y="0"/>
                </a:lnTo>
                <a:lnTo>
                  <a:pt x="23036" y="1400"/>
                </a:lnTo>
                <a:lnTo>
                  <a:pt x="1400" y="1400"/>
                </a:lnTo>
                <a:close/>
              </a:path>
              <a:path fill="darken" w="24436" h="21600">
                <a:moveTo>
                  <a:pt x="24436" y="0"/>
                </a:moveTo>
                <a:lnTo>
                  <a:pt x="24436" y="21600"/>
                </a:lnTo>
                <a:lnTo>
                  <a:pt x="23036" y="20200"/>
                </a:lnTo>
                <a:lnTo>
                  <a:pt x="23036" y="1400"/>
                </a:lnTo>
                <a:close/>
              </a:path>
              <a:path fill="darkenLess" w="24436" h="21600">
                <a:moveTo>
                  <a:pt x="24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6" y="20200"/>
                </a:lnTo>
                <a:close/>
              </a:path>
              <a:path fill="lighten" w="24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91">
            <a:hlinkClick r:id="rId14" action="ppaction://hlinksldjump"/>
          </p:cNvPr>
          <p:cNvSpPr/>
          <p:nvPr/>
        </p:nvSpPr>
        <p:spPr>
          <a:xfrm>
            <a:off x="4929120" y="5040360"/>
            <a:ext cx="719280" cy="620640"/>
          </a:xfrm>
          <a:custGeom>
            <a:avLst/>
            <a:gdLst>
              <a:gd name="textAreaLeft" fmla="*/ 39960 w 719280"/>
              <a:gd name="textAreaRight" fmla="*/ 679320 w 71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31" h="21600">
                <a:moveTo>
                  <a:pt x="0" y="0"/>
                </a:moveTo>
                <a:lnTo>
                  <a:pt x="25031" y="0"/>
                </a:lnTo>
                <a:lnTo>
                  <a:pt x="25031" y="21600"/>
                </a:lnTo>
                <a:lnTo>
                  <a:pt x="0" y="21600"/>
                </a:lnTo>
                <a:close/>
              </a:path>
              <a:path fill="lightenLess" w="25031" h="21600">
                <a:moveTo>
                  <a:pt x="0" y="0"/>
                </a:moveTo>
                <a:lnTo>
                  <a:pt x="25031" y="0"/>
                </a:lnTo>
                <a:lnTo>
                  <a:pt x="23631" y="1400"/>
                </a:lnTo>
                <a:lnTo>
                  <a:pt x="1400" y="1400"/>
                </a:lnTo>
                <a:close/>
              </a:path>
              <a:path fill="darken" w="25031" h="21600">
                <a:moveTo>
                  <a:pt x="25031" y="0"/>
                </a:moveTo>
                <a:lnTo>
                  <a:pt x="25031" y="21600"/>
                </a:lnTo>
                <a:lnTo>
                  <a:pt x="23631" y="20200"/>
                </a:lnTo>
                <a:lnTo>
                  <a:pt x="23631" y="1400"/>
                </a:lnTo>
                <a:close/>
              </a:path>
              <a:path fill="darkenLess" w="25031" h="21600">
                <a:moveTo>
                  <a:pt x="25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1" y="20200"/>
                </a:lnTo>
                <a:close/>
              </a:path>
              <a:path fill="lighten" w="25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92">
            <a:hlinkClick r:id="rId15" action="ppaction://hlinksldjump"/>
          </p:cNvPr>
          <p:cNvSpPr/>
          <p:nvPr/>
        </p:nvSpPr>
        <p:spPr>
          <a:xfrm>
            <a:off x="5824440" y="5005440"/>
            <a:ext cx="728640" cy="662040"/>
          </a:xfrm>
          <a:custGeom>
            <a:avLst/>
            <a:gdLst>
              <a:gd name="textAreaLeft" fmla="*/ 42840 w 728640"/>
              <a:gd name="textAreaRight" fmla="*/ 685800 w 7286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3772" h="21600">
                <a:moveTo>
                  <a:pt x="0" y="0"/>
                </a:moveTo>
                <a:lnTo>
                  <a:pt x="23772" y="0"/>
                </a:lnTo>
                <a:lnTo>
                  <a:pt x="23772" y="21600"/>
                </a:lnTo>
                <a:lnTo>
                  <a:pt x="0" y="21600"/>
                </a:lnTo>
                <a:close/>
              </a:path>
              <a:path fill="lightenLess" w="23772" h="21600">
                <a:moveTo>
                  <a:pt x="0" y="0"/>
                </a:moveTo>
                <a:lnTo>
                  <a:pt x="23772" y="0"/>
                </a:lnTo>
                <a:lnTo>
                  <a:pt x="22372" y="1400"/>
                </a:lnTo>
                <a:lnTo>
                  <a:pt x="1400" y="1400"/>
                </a:lnTo>
                <a:close/>
              </a:path>
              <a:path fill="darken" w="23772" h="21600">
                <a:moveTo>
                  <a:pt x="23772" y="0"/>
                </a:moveTo>
                <a:lnTo>
                  <a:pt x="23772" y="21600"/>
                </a:lnTo>
                <a:lnTo>
                  <a:pt x="22372" y="20200"/>
                </a:lnTo>
                <a:lnTo>
                  <a:pt x="22372" y="1400"/>
                </a:lnTo>
                <a:close/>
              </a:path>
              <a:path fill="darkenLess" w="23772" h="21600">
                <a:moveTo>
                  <a:pt x="23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2" y="20200"/>
                </a:lnTo>
                <a:close/>
              </a:path>
              <a:path fill="lighten" w="23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94">
            <a:hlinkClick r:id="rId16" action="ppaction://hlinksldjump"/>
          </p:cNvPr>
          <p:cNvSpPr/>
          <p:nvPr/>
        </p:nvSpPr>
        <p:spPr>
          <a:xfrm>
            <a:off x="5886360" y="2673360"/>
            <a:ext cx="681120" cy="614520"/>
          </a:xfrm>
          <a:custGeom>
            <a:avLst/>
            <a:gdLst>
              <a:gd name="textAreaLeft" fmla="*/ 39600 w 681120"/>
              <a:gd name="textAreaRight" fmla="*/ 641520 w 68112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3940" h="21600">
                <a:moveTo>
                  <a:pt x="0" y="0"/>
                </a:moveTo>
                <a:lnTo>
                  <a:pt x="23940" y="0"/>
                </a:lnTo>
                <a:lnTo>
                  <a:pt x="23940" y="21600"/>
                </a:lnTo>
                <a:lnTo>
                  <a:pt x="0" y="21600"/>
                </a:lnTo>
                <a:close/>
              </a:path>
              <a:path fill="lightenLess" w="23940" h="21600">
                <a:moveTo>
                  <a:pt x="0" y="0"/>
                </a:moveTo>
                <a:lnTo>
                  <a:pt x="23940" y="0"/>
                </a:lnTo>
                <a:lnTo>
                  <a:pt x="22540" y="1400"/>
                </a:lnTo>
                <a:lnTo>
                  <a:pt x="1400" y="1400"/>
                </a:lnTo>
                <a:close/>
              </a:path>
              <a:path fill="darken" w="23940" h="21600">
                <a:moveTo>
                  <a:pt x="23940" y="0"/>
                </a:moveTo>
                <a:lnTo>
                  <a:pt x="23940" y="21600"/>
                </a:lnTo>
                <a:lnTo>
                  <a:pt x="22540" y="20200"/>
                </a:lnTo>
                <a:lnTo>
                  <a:pt x="22540" y="1400"/>
                </a:lnTo>
                <a:close/>
              </a:path>
              <a:path fill="darkenLess" w="23940" h="21600">
                <a:moveTo>
                  <a:pt x="23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40" y="20200"/>
                </a:lnTo>
                <a:close/>
              </a:path>
              <a:path fill="lighten" w="23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1"/>
          <p:cNvSpPr/>
          <p:nvPr/>
        </p:nvSpPr>
        <p:spPr>
          <a:xfrm>
            <a:off x="855720" y="917640"/>
            <a:ext cx="743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ОНСТИТУЦИЯ  И 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960480" y="38412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2504160" y="15685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атья 20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1571760" y="26049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 имеет  право  на  жизн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7763040" y="5762520"/>
            <a:ext cx="795240" cy="795600"/>
          </a:xfrm>
          <a:custGeom>
            <a:avLst/>
            <a:gdLst>
              <a:gd name="textAreaLeft" fmla="*/ 51480 w 795240"/>
              <a:gd name="textAreaRight" fmla="*/ 743760 w 795240"/>
              <a:gd name="textAreaTop" fmla="*/ 51480 h 795600"/>
              <a:gd name="textAreaBottom" fmla="*/ 744120 h 79560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7"/>
                </a:moveTo>
                <a:lnTo>
                  <a:pt x="7301" y="7497"/>
                </a:lnTo>
                <a:lnTo>
                  <a:pt x="7301" y="12833"/>
                </a:lnTo>
                <a:cubicBezTo>
                  <a:pt x="7301" y="13755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5"/>
                  <a:pt x="12636" y="12833"/>
                </a:cubicBezTo>
                <a:lnTo>
                  <a:pt x="12636" y="7497"/>
                </a:lnTo>
                <a:lnTo>
                  <a:pt x="10800" y="7497"/>
                </a:lnTo>
                <a:lnTo>
                  <a:pt x="14308" y="3990"/>
                </a:lnTo>
                <a:lnTo>
                  <a:pt x="17981" y="7497"/>
                </a:lnTo>
                <a:lnTo>
                  <a:pt x="16144" y="7497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Обязанност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6">
            <a:hlinkClick r:id="rId1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9" descr="4048"/>
          <p:cNvPicPr/>
          <p:nvPr/>
        </p:nvPicPr>
        <p:blipFill>
          <a:blip r:embed="rId1"/>
          <a:stretch/>
        </p:blipFill>
        <p:spPr>
          <a:xfrm>
            <a:off x="806400" y="587520"/>
            <a:ext cx="7620120" cy="5668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685800" y="3556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407880" y="1585800"/>
            <a:ext cx="76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а Отечества является долг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  обязанностью  граждан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йской 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59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7" descr="Caregiving"/>
          <p:cNvPicPr/>
          <p:nvPr/>
        </p:nvPicPr>
        <p:blipFill>
          <a:blip r:embed="rId1"/>
          <a:stretch/>
        </p:blipFill>
        <p:spPr>
          <a:xfrm>
            <a:off x="800280" y="763560"/>
            <a:ext cx="7511760" cy="552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685800" y="3268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787320" y="28260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1336680" y="1978200"/>
            <a:ext cx="621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оспособные дети , достигшие 18 лет, должны заботиться о нетрудоспособных родите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38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7" descr="22"/>
          <p:cNvPicPr/>
          <p:nvPr/>
        </p:nvPicPr>
        <p:blipFill>
          <a:blip r:embed="rId1"/>
          <a:stretch/>
        </p:blipFill>
        <p:spPr>
          <a:xfrm>
            <a:off x="725400" y="314280"/>
            <a:ext cx="7721640" cy="6013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946080" y="22536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009800" y="1144440"/>
            <a:ext cx="7372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и или лица их заменяющ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еспечивают получение детьми основ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ст.43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deti-roditeli-zabota"/>
          <p:cNvPicPr/>
          <p:nvPr/>
        </p:nvPicPr>
        <p:blipFill>
          <a:blip r:embed="rId1"/>
          <a:stretch/>
        </p:blipFill>
        <p:spPr>
          <a:xfrm>
            <a:off x="609480" y="579600"/>
            <a:ext cx="7925040" cy="577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684360" y="19512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765000" y="1773360"/>
            <a:ext cx="74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ота о детях, их воспитани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нность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38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Простой вопро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>
            <a:hlinkClick r:id="rId1" action="ppaction://hlinksldjump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7" descr="50bbb34a05c666e9f569a50eb"/>
          <p:cNvPicPr/>
          <p:nvPr/>
        </p:nvPicPr>
        <p:blipFill>
          <a:blip r:embed="rId1"/>
          <a:stretch/>
        </p:blipFill>
        <p:spPr>
          <a:xfrm>
            <a:off x="507960" y="246240"/>
            <a:ext cx="8099640" cy="6242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611280" y="237960"/>
            <a:ext cx="7807320" cy="628524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1353960" y="1386000"/>
            <a:ext cx="609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обязан платить законно установленные налоги и сбор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57 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Символик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4"/>
          <p:cNvSpPr/>
          <p:nvPr/>
        </p:nvSpPr>
        <p:spPr>
          <a:xfrm>
            <a:off x="2917440" y="434880"/>
            <a:ext cx="29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ЛА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5" descr="685613853"/>
          <p:cNvPicPr/>
          <p:nvPr/>
        </p:nvPicPr>
        <p:blipFill>
          <a:blip r:embed="rId1"/>
          <a:stretch/>
        </p:blipFill>
        <p:spPr>
          <a:xfrm>
            <a:off x="0" y="4444920"/>
            <a:ext cx="3619440" cy="24130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6"/>
          <p:cNvSpPr/>
          <p:nvPr/>
        </p:nvSpPr>
        <p:spPr>
          <a:xfrm>
            <a:off x="4390560" y="5646600"/>
            <a:ext cx="27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ДЕРЛА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7" descr="551062256"/>
          <p:cNvPicPr/>
          <p:nvPr/>
        </p:nvPicPr>
        <p:blipFill>
          <a:blip r:embed="rId2"/>
          <a:stretch/>
        </p:blipFill>
        <p:spPr>
          <a:xfrm>
            <a:off x="5257800" y="1817640"/>
            <a:ext cx="3610080" cy="241164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8"/>
          <p:cNvSpPr/>
          <p:nvPr/>
        </p:nvSpPr>
        <p:spPr>
          <a:xfrm>
            <a:off x="5990040" y="45324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9" descr="642435582"/>
          <p:cNvPicPr/>
          <p:nvPr/>
        </p:nvPicPr>
        <p:blipFill>
          <a:blip r:embed="rId3"/>
          <a:stretch/>
        </p:blipFill>
        <p:spPr>
          <a:xfrm>
            <a:off x="654120" y="1049400"/>
            <a:ext cx="3956040" cy="238428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1284840" y="358920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ГВ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1"/>
          <p:cNvSpPr/>
          <p:nvPr/>
        </p:nvSpPr>
        <p:spPr>
          <a:xfrm>
            <a:off x="8126280" y="5827680"/>
            <a:ext cx="757440" cy="747720"/>
          </a:xfrm>
          <a:custGeom>
            <a:avLst/>
            <a:gdLst>
              <a:gd name="textAreaLeft" fmla="*/ 48240 w 757440"/>
              <a:gd name="textAreaRight" fmla="*/ 709200 w 757440"/>
              <a:gd name="textAreaTop" fmla="*/ 48240 h 747720"/>
              <a:gd name="textAreaBottom" fmla="*/ 699480 h 747720"/>
            </a:gdLst>
            <a:ahLst/>
            <a:rect l="textAreaLeft" t="textAreaTop" r="textAreaRight" b="textAreaBottom"/>
            <a:pathLst>
              <a:path w="21881" h="21600">
                <a:moveTo>
                  <a:pt x="0" y="0"/>
                </a:moveTo>
                <a:lnTo>
                  <a:pt x="21881" y="0"/>
                </a:lnTo>
                <a:lnTo>
                  <a:pt x="21881" y="21600"/>
                </a:lnTo>
                <a:lnTo>
                  <a:pt x="0" y="21600"/>
                </a:lnTo>
                <a:close/>
              </a:path>
              <a:path fill="lightenLess" w="21881" h="21600">
                <a:moveTo>
                  <a:pt x="0" y="0"/>
                </a:moveTo>
                <a:lnTo>
                  <a:pt x="21881" y="0"/>
                </a:lnTo>
                <a:lnTo>
                  <a:pt x="20481" y="1400"/>
                </a:lnTo>
                <a:lnTo>
                  <a:pt x="1400" y="1400"/>
                </a:lnTo>
                <a:close/>
              </a:path>
              <a:path fill="darken" w="21881" h="21600">
                <a:moveTo>
                  <a:pt x="21881" y="0"/>
                </a:moveTo>
                <a:lnTo>
                  <a:pt x="21881" y="21600"/>
                </a:lnTo>
                <a:lnTo>
                  <a:pt x="20481" y="20200"/>
                </a:lnTo>
                <a:lnTo>
                  <a:pt x="20481" y="1400"/>
                </a:lnTo>
                <a:close/>
              </a:path>
              <a:path fill="darkenLess" w="21881" h="21600">
                <a:moveTo>
                  <a:pt x="21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81" y="20200"/>
                </a:lnTo>
                <a:close/>
              </a:path>
              <a:path fill="lighten" w="21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81" h="21600">
                <a:moveTo>
                  <a:pt x="3934" y="7493"/>
                </a:moveTo>
                <a:lnTo>
                  <a:pt x="7441" y="7493"/>
                </a:lnTo>
                <a:lnTo>
                  <a:pt x="7441" y="12828"/>
                </a:lnTo>
                <a:cubicBezTo>
                  <a:pt x="7441" y="13751"/>
                  <a:pt x="8242" y="14482"/>
                  <a:pt x="9278" y="14482"/>
                </a:cubicBezTo>
                <a:lnTo>
                  <a:pt x="10940" y="14482"/>
                </a:lnTo>
                <a:cubicBezTo>
                  <a:pt x="11976" y="14482"/>
                  <a:pt x="12777" y="13751"/>
                  <a:pt x="12777" y="12828"/>
                </a:cubicBezTo>
                <a:lnTo>
                  <a:pt x="12777" y="7493"/>
                </a:lnTo>
                <a:lnTo>
                  <a:pt x="10940" y="7493"/>
                </a:lnTo>
                <a:lnTo>
                  <a:pt x="14448" y="3985"/>
                </a:lnTo>
                <a:lnTo>
                  <a:pt x="18121" y="7493"/>
                </a:lnTo>
                <a:lnTo>
                  <a:pt x="16284" y="7493"/>
                </a:lnTo>
                <a:lnTo>
                  <a:pt x="16284" y="12828"/>
                </a:lnTo>
                <a:cubicBezTo>
                  <a:pt x="16284" y="15596"/>
                  <a:pt x="13708" y="18155"/>
                  <a:pt x="10940" y="18155"/>
                </a:cubicBezTo>
                <a:lnTo>
                  <a:pt x="9278" y="18155"/>
                </a:lnTo>
                <a:cubicBezTo>
                  <a:pt x="6510" y="18155"/>
                  <a:pt x="3934" y="15596"/>
                  <a:pt x="3934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509760" y="3475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5462640" y="4484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729240" y="5132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часы.wav" descr=""/>
          <p:cNvPicPr/>
          <p:nvPr/>
        </p:nvPicPr>
        <p:blipFill>
          <a:blip r:embed="rId4"/>
          <a:stretch/>
        </p:blipFill>
        <p:spPr>
          <a:xfrm>
            <a:off x="7543800" y="6334200"/>
            <a:ext cx="219240" cy="218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0000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9" descr="42158"/>
          <p:cNvPicPr/>
          <p:nvPr/>
        </p:nvPicPr>
        <p:blipFill>
          <a:blip r:embed="rId1"/>
          <a:stretch/>
        </p:blipFill>
        <p:spPr>
          <a:xfrm>
            <a:off x="2990880" y="299880"/>
            <a:ext cx="3071880" cy="43880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9"/>
          <p:cNvSpPr/>
          <p:nvPr/>
        </p:nvSpPr>
        <p:spPr>
          <a:xfrm>
            <a:off x="2171520" y="244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0640" y="2854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8602560" y="2892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1207800" y="116676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695160" y="254808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ь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6636240" y="278136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7" descr="133"/>
          <p:cNvPicPr/>
          <p:nvPr/>
        </p:nvPicPr>
        <p:blipFill>
          <a:blip r:embed="rId2"/>
          <a:stretch/>
        </p:blipFill>
        <p:spPr>
          <a:xfrm>
            <a:off x="407880" y="3368520"/>
            <a:ext cx="3105360" cy="34894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8" descr="10459_html_85b62d4"/>
          <p:cNvPicPr/>
          <p:nvPr/>
        </p:nvPicPr>
        <p:blipFill>
          <a:blip r:embed="rId3"/>
          <a:stretch/>
        </p:blipFill>
        <p:spPr>
          <a:xfrm>
            <a:off x="5877000" y="3395520"/>
            <a:ext cx="2976480" cy="3462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0"/>
          <p:cNvSpPr/>
          <p:nvPr/>
        </p:nvSpPr>
        <p:spPr>
          <a:xfrm>
            <a:off x="1177920" y="573120"/>
            <a:ext cx="7488360" cy="60022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2049120" y="784080"/>
            <a:ext cx="533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459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автор слов гим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йской Федераци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7">
            <a:hlinkClick r:id="rId1"/>
          </p:cNvPr>
          <p:cNvSpPr/>
          <p:nvPr/>
        </p:nvSpPr>
        <p:spPr>
          <a:xfrm>
            <a:off x="3368520" y="476100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гей</a:t>
            </a:r>
            <a:r>
              <a:rPr b="0" lang="ru-RU" sz="2000" spc="-1" strike="noStrike">
                <a:solidFill>
                  <a:srgbClr val="31459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ха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>
            <a:hlinkClick r:id="rId2"/>
          </p:cNvPr>
          <p:cNvSpPr/>
          <p:nvPr/>
        </p:nvSpPr>
        <p:spPr>
          <a:xfrm>
            <a:off x="3303720" y="336708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вгений  Евтуш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9">
            <a:hlinkClick r:id="rId3"/>
          </p:cNvPr>
          <p:cNvSpPr/>
          <p:nvPr/>
        </p:nvSpPr>
        <p:spPr>
          <a:xfrm>
            <a:off x="3300480" y="203040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уард Багриц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689040" y="1616040"/>
            <a:ext cx="744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31459c"/>
                </a:solidFill>
                <a:latin typeface="Arial"/>
              </a:rPr>
              <a:t>Сергей 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втор слов гим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8096400" y="5905440"/>
            <a:ext cx="747720" cy="690480"/>
          </a:xfrm>
          <a:custGeom>
            <a:avLst/>
            <a:gdLst>
              <a:gd name="textAreaLeft" fmla="*/ 44640 w 747720"/>
              <a:gd name="textAreaRight" fmla="*/ 703080 w 747720"/>
              <a:gd name="textAreaTop" fmla="*/ 44640 h 690480"/>
              <a:gd name="textAreaBottom" fmla="*/ 645840 h 690480"/>
            </a:gdLst>
            <a:ahLst/>
            <a:rect l="textAreaLeft" t="textAreaTop" r="textAreaRight" b="textAreaBottom"/>
            <a:pathLst>
              <a:path w="23390" h="21600">
                <a:moveTo>
                  <a:pt x="0" y="0"/>
                </a:moveTo>
                <a:lnTo>
                  <a:pt x="23390" y="0"/>
                </a:lnTo>
                <a:lnTo>
                  <a:pt x="23390" y="21600"/>
                </a:lnTo>
                <a:lnTo>
                  <a:pt x="0" y="21600"/>
                </a:lnTo>
                <a:close/>
              </a:path>
              <a:path fill="lightenLess" w="23390" h="21600">
                <a:moveTo>
                  <a:pt x="0" y="0"/>
                </a:moveTo>
                <a:lnTo>
                  <a:pt x="23390" y="0"/>
                </a:lnTo>
                <a:lnTo>
                  <a:pt x="21990" y="1400"/>
                </a:lnTo>
                <a:lnTo>
                  <a:pt x="1400" y="1400"/>
                </a:lnTo>
                <a:close/>
              </a:path>
              <a:path fill="darken" w="23390" h="21600">
                <a:moveTo>
                  <a:pt x="23390" y="0"/>
                </a:moveTo>
                <a:lnTo>
                  <a:pt x="23390" y="21600"/>
                </a:lnTo>
                <a:lnTo>
                  <a:pt x="21990" y="20200"/>
                </a:lnTo>
                <a:lnTo>
                  <a:pt x="21990" y="1400"/>
                </a:lnTo>
                <a:close/>
              </a:path>
              <a:path fill="darkenLess" w="23390" h="21600">
                <a:moveTo>
                  <a:pt x="2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0" y="20200"/>
                </a:lnTo>
                <a:close/>
              </a:path>
              <a:path fill="lighten" w="2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0" h="21600">
                <a:moveTo>
                  <a:pt x="4688" y="7493"/>
                </a:moveTo>
                <a:lnTo>
                  <a:pt x="8196" y="7493"/>
                </a:lnTo>
                <a:lnTo>
                  <a:pt x="8196" y="12828"/>
                </a:lnTo>
                <a:cubicBezTo>
                  <a:pt x="8196" y="13751"/>
                  <a:pt x="8997" y="14482"/>
                  <a:pt x="10032" y="14482"/>
                </a:cubicBezTo>
                <a:lnTo>
                  <a:pt x="11695" y="14482"/>
                </a:lnTo>
                <a:cubicBezTo>
                  <a:pt x="12731" y="14482"/>
                  <a:pt x="13531" y="13751"/>
                  <a:pt x="13531" y="12828"/>
                </a:cubicBezTo>
                <a:lnTo>
                  <a:pt x="13531" y="7493"/>
                </a:lnTo>
                <a:lnTo>
                  <a:pt x="11695" y="7493"/>
                </a:lnTo>
                <a:lnTo>
                  <a:pt x="15202" y="3985"/>
                </a:lnTo>
                <a:lnTo>
                  <a:pt x="18875" y="7493"/>
                </a:lnTo>
                <a:lnTo>
                  <a:pt x="17039" y="7493"/>
                </a:lnTo>
                <a:lnTo>
                  <a:pt x="17039" y="12828"/>
                </a:lnTo>
                <a:cubicBezTo>
                  <a:pt x="17039" y="15596"/>
                  <a:pt x="14463" y="18155"/>
                  <a:pt x="11695" y="18155"/>
                </a:cubicBezTo>
                <a:lnTo>
                  <a:pt x="10032" y="18155"/>
                </a:lnTo>
                <a:cubicBezTo>
                  <a:pt x="7265" y="18155"/>
                  <a:pt x="4688" y="15596"/>
                  <a:pt x="4688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279360" y="865080"/>
            <a:ext cx="855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в России отмеч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государственного фл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5">
            <a:hlinkClick r:id="rId1"/>
          </p:cNvPr>
          <p:cNvSpPr/>
          <p:nvPr/>
        </p:nvSpPr>
        <p:spPr>
          <a:xfrm>
            <a:off x="3514680" y="3392640"/>
            <a:ext cx="2481480" cy="1042920"/>
          </a:xfrm>
          <a:custGeom>
            <a:avLst/>
            <a:gdLst>
              <a:gd name="textAreaLeft" fmla="*/ 67320 w 2481480"/>
              <a:gd name="textAreaRight" fmla="*/ 2414160 w 248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84" h="21600">
                <a:moveTo>
                  <a:pt x="0" y="0"/>
                </a:moveTo>
                <a:lnTo>
                  <a:pt x="51384" y="0"/>
                </a:lnTo>
                <a:lnTo>
                  <a:pt x="51384" y="21600"/>
                </a:lnTo>
                <a:lnTo>
                  <a:pt x="0" y="21600"/>
                </a:lnTo>
                <a:close/>
              </a:path>
              <a:path fill="lightenLess" w="51384" h="21600">
                <a:moveTo>
                  <a:pt x="0" y="0"/>
                </a:moveTo>
                <a:lnTo>
                  <a:pt x="51384" y="0"/>
                </a:lnTo>
                <a:lnTo>
                  <a:pt x="49984" y="1400"/>
                </a:lnTo>
                <a:lnTo>
                  <a:pt x="1400" y="1400"/>
                </a:lnTo>
                <a:close/>
              </a:path>
              <a:path fill="darken" w="51384" h="21600">
                <a:moveTo>
                  <a:pt x="51384" y="0"/>
                </a:moveTo>
                <a:lnTo>
                  <a:pt x="51384" y="21600"/>
                </a:lnTo>
                <a:lnTo>
                  <a:pt x="49984" y="20200"/>
                </a:lnTo>
                <a:lnTo>
                  <a:pt x="49984" y="1400"/>
                </a:lnTo>
                <a:close/>
              </a:path>
              <a:path fill="darkenLess" w="51384" h="21600">
                <a:moveTo>
                  <a:pt x="51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84" y="20200"/>
                </a:lnTo>
                <a:close/>
              </a:path>
              <a:path fill="lighten" w="51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>
            <a:hlinkClick r:id="rId2"/>
          </p:cNvPr>
          <p:cNvSpPr/>
          <p:nvPr/>
        </p:nvSpPr>
        <p:spPr>
          <a:xfrm>
            <a:off x="1330200" y="4902120"/>
            <a:ext cx="2481480" cy="1042920"/>
          </a:xfrm>
          <a:custGeom>
            <a:avLst/>
            <a:gdLst>
              <a:gd name="textAreaLeft" fmla="*/ 67320 w 2481480"/>
              <a:gd name="textAreaRight" fmla="*/ 2414160 w 248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84" h="21600">
                <a:moveTo>
                  <a:pt x="0" y="0"/>
                </a:moveTo>
                <a:lnTo>
                  <a:pt x="51384" y="0"/>
                </a:lnTo>
                <a:lnTo>
                  <a:pt x="51384" y="21600"/>
                </a:lnTo>
                <a:lnTo>
                  <a:pt x="0" y="21600"/>
                </a:lnTo>
                <a:close/>
              </a:path>
              <a:path fill="lightenLess" w="51384" h="21600">
                <a:moveTo>
                  <a:pt x="0" y="0"/>
                </a:moveTo>
                <a:lnTo>
                  <a:pt x="51384" y="0"/>
                </a:lnTo>
                <a:lnTo>
                  <a:pt x="49984" y="1400"/>
                </a:lnTo>
                <a:lnTo>
                  <a:pt x="1400" y="1400"/>
                </a:lnTo>
                <a:close/>
              </a:path>
              <a:path fill="darken" w="51384" h="21600">
                <a:moveTo>
                  <a:pt x="51384" y="0"/>
                </a:moveTo>
                <a:lnTo>
                  <a:pt x="51384" y="21600"/>
                </a:lnTo>
                <a:lnTo>
                  <a:pt x="49984" y="20200"/>
                </a:lnTo>
                <a:lnTo>
                  <a:pt x="49984" y="1400"/>
                </a:lnTo>
                <a:close/>
              </a:path>
              <a:path fill="darkenLess" w="51384" h="21600">
                <a:moveTo>
                  <a:pt x="51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84" y="20200"/>
                </a:lnTo>
                <a:close/>
              </a:path>
              <a:path fill="lighten" w="51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7">
            <a:hlinkClick r:id="rId3"/>
          </p:cNvPr>
          <p:cNvSpPr/>
          <p:nvPr/>
        </p:nvSpPr>
        <p:spPr>
          <a:xfrm>
            <a:off x="5637240" y="5056200"/>
            <a:ext cx="2481120" cy="1042920"/>
          </a:xfrm>
          <a:custGeom>
            <a:avLst/>
            <a:gdLst>
              <a:gd name="textAreaLeft" fmla="*/ 67320 w 2481120"/>
              <a:gd name="textAreaRight" fmla="*/ 2413800 w 2481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0"/>
          <p:cNvSpPr/>
          <p:nvPr/>
        </p:nvSpPr>
        <p:spPr>
          <a:xfrm>
            <a:off x="641520" y="34128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641520" y="34128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1335240" y="1582560"/>
            <a:ext cx="63133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       государственного флага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ссии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мечает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   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22 авгу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/>
          <p:cNvSpPr/>
          <p:nvPr/>
        </p:nvSpPr>
        <p:spPr>
          <a:xfrm>
            <a:off x="8032680" y="5838840"/>
            <a:ext cx="738360" cy="738000"/>
          </a:xfrm>
          <a:custGeom>
            <a:avLst/>
            <a:gdLst>
              <a:gd name="textAreaLeft" fmla="*/ 47520 w 738360"/>
              <a:gd name="textAreaRight" fmla="*/ 690840 w 73836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7493"/>
                </a:moveTo>
                <a:lnTo>
                  <a:pt x="7306" y="7493"/>
                </a:lnTo>
                <a:lnTo>
                  <a:pt x="7306" y="12828"/>
                </a:lnTo>
                <a:cubicBezTo>
                  <a:pt x="7306" y="13751"/>
                  <a:pt x="8107" y="14482"/>
                  <a:pt x="9143" y="14482"/>
                </a:cubicBezTo>
                <a:lnTo>
                  <a:pt x="10805" y="14482"/>
                </a:lnTo>
                <a:cubicBezTo>
                  <a:pt x="11841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5" y="7493"/>
                </a:lnTo>
                <a:lnTo>
                  <a:pt x="14313" y="3985"/>
                </a:lnTo>
                <a:lnTo>
                  <a:pt x="17986" y="7493"/>
                </a:lnTo>
                <a:lnTo>
                  <a:pt x="16149" y="7493"/>
                </a:lnTo>
                <a:lnTo>
                  <a:pt x="16149" y="12828"/>
                </a:lnTo>
                <a:cubicBezTo>
                  <a:pt x="16149" y="15596"/>
                  <a:pt x="13573" y="18155"/>
                  <a:pt x="10805" y="18155"/>
                </a:cubicBezTo>
                <a:lnTo>
                  <a:pt x="9143" y="18155"/>
                </a:lnTo>
                <a:cubicBezTo>
                  <a:pt x="6375" y="18155"/>
                  <a:pt x="3799" y="15596"/>
                  <a:pt x="379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0004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6f3fa"/>
                </a:solidFill>
                <a:latin typeface="Times New Roman"/>
                <a:ea typeface="Times New Roman"/>
              </a:rPr>
              <a:t>Поздравляем знатоков основного закона государств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3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5324760" y="230040"/>
            <a:ext cx="30502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1028880" y="652320"/>
            <a:ext cx="753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зовите основной закон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>
            <a:hlinkClick r:id="rId1"/>
          </p:cNvPr>
          <p:cNvSpPr/>
          <p:nvPr/>
        </p:nvSpPr>
        <p:spPr>
          <a:xfrm>
            <a:off x="1271520" y="3051000"/>
            <a:ext cx="1909800" cy="852840"/>
          </a:xfrm>
          <a:custGeom>
            <a:avLst/>
            <a:gdLst>
              <a:gd name="textAreaLeft" fmla="*/ 55080 w 1909800"/>
              <a:gd name="textAreaRight" fmla="*/ 1854720 w 1909800"/>
              <a:gd name="textAreaTop" fmla="*/ 55080 h 852840"/>
              <a:gd name="textAreaBottom" fmla="*/ 797760 h 85284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9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9" y="20200"/>
                </a:lnTo>
                <a:lnTo>
                  <a:pt x="46959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9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уп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>
            <a:hlinkClick r:id="rId2"/>
          </p:cNvPr>
          <p:cNvSpPr/>
          <p:nvPr/>
        </p:nvSpPr>
        <p:spPr>
          <a:xfrm>
            <a:off x="3073320" y="4221000"/>
            <a:ext cx="2471760" cy="871560"/>
          </a:xfrm>
          <a:custGeom>
            <a:avLst/>
            <a:gdLst>
              <a:gd name="textAreaLeft" fmla="*/ 56160 w 2471760"/>
              <a:gd name="textAreaRight" fmla="*/ 2415600 w 2471760"/>
              <a:gd name="textAreaTop" fmla="*/ 56160 h 871560"/>
              <a:gd name="textAreaBottom" fmla="*/ 815400 h 871560"/>
            </a:gdLst>
            <a:ahLst/>
            <a:rect l="textAreaLeft" t="textAreaTop" r="textAreaRight" b="textAreaBottom"/>
            <a:pathLst>
              <a:path w="61242" h="21600">
                <a:moveTo>
                  <a:pt x="0" y="0"/>
                </a:moveTo>
                <a:lnTo>
                  <a:pt x="61242" y="0"/>
                </a:lnTo>
                <a:lnTo>
                  <a:pt x="61242" y="21600"/>
                </a:lnTo>
                <a:lnTo>
                  <a:pt x="0" y="21600"/>
                </a:lnTo>
                <a:close/>
              </a:path>
              <a:path fill="lightenLess" w="61242" h="21600">
                <a:moveTo>
                  <a:pt x="0" y="0"/>
                </a:moveTo>
                <a:lnTo>
                  <a:pt x="61242" y="0"/>
                </a:lnTo>
                <a:lnTo>
                  <a:pt x="59842" y="1400"/>
                </a:lnTo>
                <a:lnTo>
                  <a:pt x="1400" y="1400"/>
                </a:lnTo>
                <a:close/>
              </a:path>
              <a:path fill="darken" w="61242" h="21600">
                <a:moveTo>
                  <a:pt x="61242" y="0"/>
                </a:moveTo>
                <a:lnTo>
                  <a:pt x="61242" y="21600"/>
                </a:lnTo>
                <a:lnTo>
                  <a:pt x="59842" y="20200"/>
                </a:lnTo>
                <a:lnTo>
                  <a:pt x="59842" y="1400"/>
                </a:lnTo>
                <a:close/>
              </a:path>
              <a:path fill="darkenLess" w="61242" h="21600">
                <a:moveTo>
                  <a:pt x="61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42" y="20200"/>
                </a:lnTo>
                <a:close/>
              </a:path>
              <a:path fill="lighten" w="61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феде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>
            <a:hlinkClick r:id="rId3" action="ppaction://hlinksldjump"/>
          </p:cNvPr>
          <p:cNvSpPr/>
          <p:nvPr/>
        </p:nvSpPr>
        <p:spPr>
          <a:xfrm>
            <a:off x="5232240" y="5375160"/>
            <a:ext cx="2167200" cy="881280"/>
          </a:xfrm>
          <a:custGeom>
            <a:avLst/>
            <a:gdLst>
              <a:gd name="textAreaLeft" fmla="*/ 56880 w 2167200"/>
              <a:gd name="textAreaRight" fmla="*/ 2110320 w 2167200"/>
              <a:gd name="textAreaTop" fmla="*/ 56880 h 881280"/>
              <a:gd name="textAreaBottom" fmla="*/ 824400 h 881280"/>
            </a:gdLst>
            <a:ahLst/>
            <a:rect l="textAreaLeft" t="textAreaTop" r="textAreaRight" b="textAreaBottom"/>
            <a:pathLst>
              <a:path w="53105" h="21600">
                <a:moveTo>
                  <a:pt x="0" y="0"/>
                </a:moveTo>
                <a:lnTo>
                  <a:pt x="53105" y="0"/>
                </a:lnTo>
                <a:lnTo>
                  <a:pt x="53105" y="21600"/>
                </a:lnTo>
                <a:lnTo>
                  <a:pt x="0" y="21600"/>
                </a:lnTo>
                <a:close/>
              </a:path>
              <a:path fill="lightenLess" w="53105" h="21600">
                <a:moveTo>
                  <a:pt x="0" y="0"/>
                </a:moveTo>
                <a:lnTo>
                  <a:pt x="53105" y="0"/>
                </a:lnTo>
                <a:lnTo>
                  <a:pt x="51705" y="1400"/>
                </a:lnTo>
                <a:lnTo>
                  <a:pt x="1400" y="1400"/>
                </a:lnTo>
                <a:close/>
              </a:path>
              <a:path fill="darken" w="53105" h="21600">
                <a:moveTo>
                  <a:pt x="53105" y="0"/>
                </a:moveTo>
                <a:lnTo>
                  <a:pt x="53105" y="21600"/>
                </a:lnTo>
                <a:lnTo>
                  <a:pt x="51705" y="20200"/>
                </a:lnTo>
                <a:lnTo>
                  <a:pt x="51705" y="1400"/>
                </a:lnTo>
                <a:close/>
              </a:path>
              <a:path fill="darkenLess" w="53105" h="21600">
                <a:moveTo>
                  <a:pt x="5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05" y="20200"/>
                </a:lnTo>
                <a:close/>
              </a:path>
              <a:path fill="lighten" w="5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157320" y="30168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2975040" y="2409840"/>
            <a:ext cx="586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оздравляю вас с Д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f3fa"/>
                </a:solidFill>
                <a:latin typeface="Times New Roman"/>
              </a:rPr>
              <a:t>                                     </a:t>
            </a: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Конституц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И желаю, чтоб нашу стра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Обошли стороной револю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Чтоб она не познала вой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усть живет, процветает Вели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Наша Родина, гордость и ч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Неприятели пусть многоли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озабудут коварство и л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4321080" y="4497480"/>
            <a:ext cx="448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rcRect l="0" t="0" r="4179" b="2942"/>
          <a:stretch/>
        </p:blipFill>
        <p:spPr>
          <a:xfrm>
            <a:off x="189000" y="2593800"/>
            <a:ext cx="2597040" cy="358956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6"/>
          <p:cNvSpPr/>
          <p:nvPr/>
        </p:nvSpPr>
        <p:spPr>
          <a:xfrm>
            <a:off x="4473720" y="4649760"/>
            <a:ext cx="448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800280" y="37944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95480" y="566640"/>
            <a:ext cx="529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онститу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8153280" y="6039000"/>
            <a:ext cx="804960" cy="699840"/>
          </a:xfrm>
          <a:custGeom>
            <a:avLst/>
            <a:gdLst>
              <a:gd name="textAreaLeft" fmla="*/ 45360 w 804960"/>
              <a:gd name="textAreaRight" fmla="*/ 759600 w 804960"/>
              <a:gd name="textAreaTop" fmla="*/ 45360 h 699840"/>
              <a:gd name="textAreaBottom" fmla="*/ 654480 h 699840"/>
            </a:gdLst>
            <a:ahLst/>
            <a:rect l="textAreaLeft" t="textAreaTop" r="textAreaRight" b="textAreaBottom"/>
            <a:pathLst>
              <a:path w="24843" h="21600">
                <a:moveTo>
                  <a:pt x="0" y="0"/>
                </a:moveTo>
                <a:lnTo>
                  <a:pt x="24843" y="0"/>
                </a:lnTo>
                <a:lnTo>
                  <a:pt x="24843" y="21600"/>
                </a:lnTo>
                <a:lnTo>
                  <a:pt x="0" y="21600"/>
                </a:lnTo>
                <a:close/>
              </a:path>
              <a:path fill="lightenLess" w="24843" h="21600">
                <a:moveTo>
                  <a:pt x="0" y="0"/>
                </a:moveTo>
                <a:lnTo>
                  <a:pt x="24843" y="0"/>
                </a:lnTo>
                <a:lnTo>
                  <a:pt x="23443" y="1400"/>
                </a:lnTo>
                <a:lnTo>
                  <a:pt x="1400" y="1400"/>
                </a:lnTo>
                <a:close/>
              </a:path>
              <a:path fill="darken" w="24843" h="21600">
                <a:moveTo>
                  <a:pt x="24843" y="0"/>
                </a:moveTo>
                <a:lnTo>
                  <a:pt x="24843" y="21600"/>
                </a:lnTo>
                <a:lnTo>
                  <a:pt x="23443" y="20200"/>
                </a:lnTo>
                <a:lnTo>
                  <a:pt x="23443" y="1400"/>
                </a:lnTo>
                <a:close/>
              </a:path>
              <a:path fill="darkenLess" w="24843" h="21600">
                <a:moveTo>
                  <a:pt x="2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3" y="20200"/>
                </a:lnTo>
                <a:close/>
              </a:path>
              <a:path fill="lighten" w="2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43" h="21600">
                <a:moveTo>
                  <a:pt x="5415" y="7493"/>
                </a:moveTo>
                <a:lnTo>
                  <a:pt x="8922" y="7493"/>
                </a:lnTo>
                <a:lnTo>
                  <a:pt x="8922" y="12828"/>
                </a:lnTo>
                <a:cubicBezTo>
                  <a:pt x="8922" y="13751"/>
                  <a:pt x="9723" y="14482"/>
                  <a:pt x="10759" y="14482"/>
                </a:cubicBezTo>
                <a:lnTo>
                  <a:pt x="12421" y="14482"/>
                </a:lnTo>
                <a:cubicBezTo>
                  <a:pt x="13457" y="14482"/>
                  <a:pt x="14258" y="13751"/>
                  <a:pt x="14258" y="12828"/>
                </a:cubicBezTo>
                <a:lnTo>
                  <a:pt x="14258" y="7493"/>
                </a:lnTo>
                <a:lnTo>
                  <a:pt x="12421" y="7493"/>
                </a:lnTo>
                <a:lnTo>
                  <a:pt x="15929" y="3985"/>
                </a:lnTo>
                <a:lnTo>
                  <a:pt x="19602" y="7493"/>
                </a:lnTo>
                <a:lnTo>
                  <a:pt x="17765" y="7493"/>
                </a:lnTo>
                <a:lnTo>
                  <a:pt x="17765" y="12828"/>
                </a:lnTo>
                <a:cubicBezTo>
                  <a:pt x="17765" y="15596"/>
                  <a:pt x="15189" y="18155"/>
                  <a:pt x="12421" y="18155"/>
                </a:cubicBezTo>
                <a:lnTo>
                  <a:pt x="10759" y="18155"/>
                </a:lnTo>
                <a:cubicBezTo>
                  <a:pt x="7991" y="18155"/>
                  <a:pt x="5415" y="15596"/>
                  <a:pt x="5415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8" descr="0017-014-Konstitutsija-RF"/>
          <p:cNvPicPr/>
          <p:nvPr/>
        </p:nvPicPr>
        <p:blipFill>
          <a:blip r:embed="rId1"/>
          <a:stretch/>
        </p:blipFill>
        <p:spPr>
          <a:xfrm>
            <a:off x="3255840" y="2028960"/>
            <a:ext cx="2805120" cy="3909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8"/>
          <p:cNvSpPr/>
          <p:nvPr/>
        </p:nvSpPr>
        <p:spPr>
          <a:xfrm>
            <a:off x="871560" y="23976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1030320" y="625320"/>
            <a:ext cx="698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f6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Сколько лет прошло с момента    принятия послед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Конститу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шего государств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">
            <a:hlinkClick r:id="rId1"/>
          </p:cNvPr>
          <p:cNvSpPr/>
          <p:nvPr/>
        </p:nvSpPr>
        <p:spPr>
          <a:xfrm>
            <a:off x="1457280" y="4152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>
            <a:hlinkClick r:id="rId2"/>
          </p:cNvPr>
          <p:cNvSpPr/>
          <p:nvPr/>
        </p:nvSpPr>
        <p:spPr>
          <a:xfrm>
            <a:off x="3873600" y="4168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7">
            <a:hlinkClick r:id="rId3"/>
          </p:cNvPr>
          <p:cNvSpPr/>
          <p:nvPr/>
        </p:nvSpPr>
        <p:spPr>
          <a:xfrm>
            <a:off x="6404040" y="420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103356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980080" y="635040"/>
            <a:ext cx="39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12f69"/>
                </a:solidFill>
                <a:latin typeface="Arial"/>
              </a:rPr>
              <a:t>27 л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6"/>
          <p:cNvSpPr/>
          <p:nvPr/>
        </p:nvSpPr>
        <p:spPr>
          <a:xfrm>
            <a:off x="7972560" y="5743440"/>
            <a:ext cx="785520" cy="776520"/>
          </a:xfrm>
          <a:custGeom>
            <a:avLst/>
            <a:gdLst>
              <a:gd name="textAreaLeft" fmla="*/ 50040 w 785520"/>
              <a:gd name="textAreaRight" fmla="*/ 735480 w 785520"/>
              <a:gd name="textAreaTop" fmla="*/ 50040 h 776520"/>
              <a:gd name="textAreaBottom" fmla="*/ 726480 h 77652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20450" y="1400"/>
                </a:lnTo>
                <a:lnTo>
                  <a:pt x="1400" y="1400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20450" y="20200"/>
                </a:lnTo>
                <a:lnTo>
                  <a:pt x="20450" y="1400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50" y="20200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50" h="21600">
                <a:moveTo>
                  <a:pt x="3919" y="7493"/>
                </a:moveTo>
                <a:lnTo>
                  <a:pt x="7426" y="7493"/>
                </a:lnTo>
                <a:lnTo>
                  <a:pt x="7426" y="12828"/>
                </a:lnTo>
                <a:cubicBezTo>
                  <a:pt x="7426" y="13751"/>
                  <a:pt x="8227" y="14482"/>
                  <a:pt x="9263" y="14482"/>
                </a:cubicBezTo>
                <a:lnTo>
                  <a:pt x="10925" y="14482"/>
                </a:lnTo>
                <a:cubicBezTo>
                  <a:pt x="11961" y="14482"/>
                  <a:pt x="12762" y="13751"/>
                  <a:pt x="12762" y="12828"/>
                </a:cubicBezTo>
                <a:lnTo>
                  <a:pt x="12762" y="7493"/>
                </a:lnTo>
                <a:lnTo>
                  <a:pt x="10925" y="7493"/>
                </a:lnTo>
                <a:lnTo>
                  <a:pt x="14433" y="3985"/>
                </a:lnTo>
                <a:lnTo>
                  <a:pt x="18106" y="7493"/>
                </a:lnTo>
                <a:lnTo>
                  <a:pt x="16269" y="7493"/>
                </a:lnTo>
                <a:lnTo>
                  <a:pt x="16269" y="12828"/>
                </a:lnTo>
                <a:cubicBezTo>
                  <a:pt x="16269" y="15596"/>
                  <a:pt x="13693" y="18155"/>
                  <a:pt x="10925" y="18155"/>
                </a:cubicBezTo>
                <a:lnTo>
                  <a:pt x="9263" y="18155"/>
                </a:lnTo>
                <a:cubicBezTo>
                  <a:pt x="6495" y="18155"/>
                  <a:pt x="3919" y="15596"/>
                  <a:pt x="391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0017-014-Konstitutsija-RF"/>
          <p:cNvPicPr/>
          <p:nvPr/>
        </p:nvPicPr>
        <p:blipFill>
          <a:blip r:embed="rId1"/>
          <a:stretch/>
        </p:blipFill>
        <p:spPr>
          <a:xfrm>
            <a:off x="3532320" y="2390760"/>
            <a:ext cx="2805120" cy="3909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9"/>
          <p:cNvSpPr/>
          <p:nvPr/>
        </p:nvSpPr>
        <p:spPr>
          <a:xfrm>
            <a:off x="685800" y="3556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4267080" y="1127160"/>
            <a:ext cx="23148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560880" y="838080"/>
            <a:ext cx="740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Сколько изданий Конститу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считывает  наше государств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>
            <a:hlinkClick r:id="rId1"/>
          </p:cNvPr>
          <p:cNvSpPr/>
          <p:nvPr/>
        </p:nvSpPr>
        <p:spPr>
          <a:xfrm>
            <a:off x="1746360" y="2765520"/>
            <a:ext cx="900000" cy="890640"/>
          </a:xfrm>
          <a:custGeom>
            <a:avLst/>
            <a:gdLst>
              <a:gd name="textAreaLeft" fmla="*/ 57600 w 900000"/>
              <a:gd name="textAreaRight" fmla="*/ 842400 w 9000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1827" h="21600">
                <a:moveTo>
                  <a:pt x="0" y="0"/>
                </a:moveTo>
                <a:lnTo>
                  <a:pt x="21827" y="0"/>
                </a:lnTo>
                <a:lnTo>
                  <a:pt x="21827" y="21600"/>
                </a:lnTo>
                <a:lnTo>
                  <a:pt x="0" y="21600"/>
                </a:lnTo>
                <a:close/>
              </a:path>
              <a:path fill="lightenLess" w="21827" h="21600">
                <a:moveTo>
                  <a:pt x="0" y="0"/>
                </a:moveTo>
                <a:lnTo>
                  <a:pt x="21827" y="0"/>
                </a:lnTo>
                <a:lnTo>
                  <a:pt x="20427" y="1400"/>
                </a:lnTo>
                <a:lnTo>
                  <a:pt x="1400" y="1400"/>
                </a:lnTo>
                <a:close/>
              </a:path>
              <a:path fill="darken" w="21827" h="21600">
                <a:moveTo>
                  <a:pt x="21827" y="0"/>
                </a:moveTo>
                <a:lnTo>
                  <a:pt x="21827" y="21600"/>
                </a:lnTo>
                <a:lnTo>
                  <a:pt x="20427" y="20200"/>
                </a:lnTo>
                <a:lnTo>
                  <a:pt x="20427" y="1400"/>
                </a:lnTo>
                <a:close/>
              </a:path>
              <a:path fill="darkenLess" w="21827" h="21600">
                <a:moveTo>
                  <a:pt x="21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27" y="20200"/>
                </a:lnTo>
                <a:close/>
              </a:path>
              <a:path fill="lighten" w="21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459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7">
            <a:hlinkClick r:id="rId2"/>
          </p:cNvPr>
          <p:cNvSpPr/>
          <p:nvPr/>
        </p:nvSpPr>
        <p:spPr>
          <a:xfrm>
            <a:off x="1716120" y="3855960"/>
            <a:ext cx="900000" cy="824040"/>
          </a:xfrm>
          <a:custGeom>
            <a:avLst/>
            <a:gdLst>
              <a:gd name="textAreaLeft" fmla="*/ 53280 w 900000"/>
              <a:gd name="textAreaRight" fmla="*/ 846720 w 900000"/>
              <a:gd name="textAreaTop" fmla="*/ 53280 h 824040"/>
              <a:gd name="textAreaBottom" fmla="*/ 770760 h 824040"/>
            </a:gdLst>
            <a:ahLst/>
            <a:rect l="textAreaLeft" t="textAreaTop" r="textAreaRight" b="textAreaBottom"/>
            <a:pathLst>
              <a:path w="23590" h="21600">
                <a:moveTo>
                  <a:pt x="0" y="0"/>
                </a:moveTo>
                <a:lnTo>
                  <a:pt x="23590" y="0"/>
                </a:lnTo>
                <a:lnTo>
                  <a:pt x="23590" y="21600"/>
                </a:lnTo>
                <a:lnTo>
                  <a:pt x="0" y="21600"/>
                </a:lnTo>
                <a:close/>
              </a:path>
              <a:path fill="lightenLess" w="23590" h="21600">
                <a:moveTo>
                  <a:pt x="0" y="0"/>
                </a:moveTo>
                <a:lnTo>
                  <a:pt x="23590" y="0"/>
                </a:lnTo>
                <a:lnTo>
                  <a:pt x="22190" y="1400"/>
                </a:lnTo>
                <a:lnTo>
                  <a:pt x="1400" y="1400"/>
                </a:lnTo>
                <a:close/>
              </a:path>
              <a:path fill="darken" w="23590" h="21600">
                <a:moveTo>
                  <a:pt x="23590" y="0"/>
                </a:moveTo>
                <a:lnTo>
                  <a:pt x="23590" y="21600"/>
                </a:lnTo>
                <a:lnTo>
                  <a:pt x="22190" y="20200"/>
                </a:lnTo>
                <a:lnTo>
                  <a:pt x="22190" y="1400"/>
                </a:lnTo>
                <a:close/>
              </a:path>
              <a:path fill="darkenLess" w="23590" h="21600">
                <a:moveTo>
                  <a:pt x="2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0" y="20200"/>
                </a:lnTo>
                <a:close/>
              </a:path>
              <a:path fill="lighten" w="2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8">
            <a:hlinkClick r:id="rId3"/>
          </p:cNvPr>
          <p:cNvSpPr/>
          <p:nvPr/>
        </p:nvSpPr>
        <p:spPr>
          <a:xfrm>
            <a:off x="1751040" y="5043600"/>
            <a:ext cx="880920" cy="909360"/>
          </a:xfrm>
          <a:custGeom>
            <a:avLst/>
            <a:gdLst>
              <a:gd name="textAreaLeft" fmla="*/ 56880 w 880920"/>
              <a:gd name="textAreaRight" fmla="*/ 824040 w 880920"/>
              <a:gd name="textAreaTop" fmla="*/ 56880 h 909360"/>
              <a:gd name="textAreaBottom" fmla="*/ 852480 h 909360"/>
            </a:gdLst>
            <a:ahLst/>
            <a:rect l="textAreaLeft" t="textAreaTop" r="textAreaRight" b="textAreaBottom"/>
            <a:pathLst>
              <a:path w="21600" h="22297">
                <a:moveTo>
                  <a:pt x="0" y="0"/>
                </a:moveTo>
                <a:lnTo>
                  <a:pt x="21600" y="0"/>
                </a:lnTo>
                <a:lnTo>
                  <a:pt x="21600" y="22297"/>
                </a:lnTo>
                <a:lnTo>
                  <a:pt x="0" y="22297"/>
                </a:lnTo>
                <a:close/>
              </a:path>
              <a:path fill="lightenLess" w="21600" h="22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7">
                <a:moveTo>
                  <a:pt x="21600" y="0"/>
                </a:moveTo>
                <a:lnTo>
                  <a:pt x="21600" y="22297"/>
                </a:lnTo>
                <a:lnTo>
                  <a:pt x="20200" y="20897"/>
                </a:lnTo>
                <a:lnTo>
                  <a:pt x="20200" y="1400"/>
                </a:lnTo>
                <a:close/>
              </a:path>
              <a:path fill="darkenLess" w="21600" h="22297">
                <a:moveTo>
                  <a:pt x="21600" y="22297"/>
                </a:moveTo>
                <a:lnTo>
                  <a:pt x="0" y="22297"/>
                </a:lnTo>
                <a:lnTo>
                  <a:pt x="1400" y="20897"/>
                </a:lnTo>
                <a:lnTo>
                  <a:pt x="20200" y="20897"/>
                </a:lnTo>
                <a:close/>
              </a:path>
              <a:path fill="lighten" w="21600" h="22297">
                <a:moveTo>
                  <a:pt x="0" y="22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febf7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220px-Обложка_Конституции_РСФСР_1918_года"/>
          <p:cNvPicPr/>
          <p:nvPr/>
        </p:nvPicPr>
        <p:blipFill>
          <a:blip r:embed="rId1"/>
          <a:stretch/>
        </p:blipFill>
        <p:spPr>
          <a:xfrm>
            <a:off x="250920" y="0"/>
            <a:ext cx="2408040" cy="351324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10"/>
          <p:cNvSpPr/>
          <p:nvPr/>
        </p:nvSpPr>
        <p:spPr>
          <a:xfrm>
            <a:off x="7962840" y="5800680"/>
            <a:ext cx="900000" cy="824040"/>
          </a:xfrm>
          <a:custGeom>
            <a:avLst/>
            <a:gdLst>
              <a:gd name="textAreaLeft" fmla="*/ 53280 w 900000"/>
              <a:gd name="textAreaRight" fmla="*/ 846720 w 900000"/>
              <a:gd name="textAreaTop" fmla="*/ 53280 h 824040"/>
              <a:gd name="textAreaBottom" fmla="*/ 770760 h 824040"/>
            </a:gdLst>
            <a:ahLst/>
            <a:rect l="textAreaLeft" t="textAreaTop" r="textAreaRight" b="textAreaBottom"/>
            <a:pathLst>
              <a:path w="23590" h="21600">
                <a:moveTo>
                  <a:pt x="0" y="0"/>
                </a:moveTo>
                <a:lnTo>
                  <a:pt x="23590" y="0"/>
                </a:lnTo>
                <a:lnTo>
                  <a:pt x="23590" y="21600"/>
                </a:lnTo>
                <a:lnTo>
                  <a:pt x="0" y="21600"/>
                </a:lnTo>
                <a:close/>
              </a:path>
              <a:path fill="lightenLess" w="23590" h="21600">
                <a:moveTo>
                  <a:pt x="0" y="0"/>
                </a:moveTo>
                <a:lnTo>
                  <a:pt x="23590" y="0"/>
                </a:lnTo>
                <a:lnTo>
                  <a:pt x="22190" y="1400"/>
                </a:lnTo>
                <a:lnTo>
                  <a:pt x="1400" y="1400"/>
                </a:lnTo>
                <a:close/>
              </a:path>
              <a:path fill="darken" w="23590" h="21600">
                <a:moveTo>
                  <a:pt x="23590" y="0"/>
                </a:moveTo>
                <a:lnTo>
                  <a:pt x="23590" y="21600"/>
                </a:lnTo>
                <a:lnTo>
                  <a:pt x="22190" y="20200"/>
                </a:lnTo>
                <a:lnTo>
                  <a:pt x="22190" y="1400"/>
                </a:lnTo>
                <a:close/>
              </a:path>
              <a:path fill="darkenLess" w="23590" h="21600">
                <a:moveTo>
                  <a:pt x="2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0" y="20200"/>
                </a:lnTo>
                <a:close/>
              </a:path>
              <a:path fill="lighten" w="2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0" h="21600">
                <a:moveTo>
                  <a:pt x="4789" y="7493"/>
                </a:moveTo>
                <a:lnTo>
                  <a:pt x="8296" y="7493"/>
                </a:lnTo>
                <a:lnTo>
                  <a:pt x="8296" y="12828"/>
                </a:lnTo>
                <a:cubicBezTo>
                  <a:pt x="8296" y="13751"/>
                  <a:pt x="9097" y="14482"/>
                  <a:pt x="10133" y="14482"/>
                </a:cubicBezTo>
                <a:lnTo>
                  <a:pt x="11795" y="14482"/>
                </a:lnTo>
                <a:cubicBezTo>
                  <a:pt x="12831" y="14482"/>
                  <a:pt x="13632" y="13751"/>
                  <a:pt x="13632" y="12828"/>
                </a:cubicBezTo>
                <a:lnTo>
                  <a:pt x="13632" y="7493"/>
                </a:lnTo>
                <a:lnTo>
                  <a:pt x="11795" y="7493"/>
                </a:lnTo>
                <a:lnTo>
                  <a:pt x="15303" y="3985"/>
                </a:lnTo>
                <a:lnTo>
                  <a:pt x="18976" y="7493"/>
                </a:lnTo>
                <a:lnTo>
                  <a:pt x="17139" y="7493"/>
                </a:lnTo>
                <a:lnTo>
                  <a:pt x="17139" y="12828"/>
                </a:lnTo>
                <a:cubicBezTo>
                  <a:pt x="17139" y="15596"/>
                  <a:pt x="14563" y="18155"/>
                  <a:pt x="11795" y="18155"/>
                </a:cubicBezTo>
                <a:lnTo>
                  <a:pt x="10133" y="18155"/>
                </a:lnTo>
                <a:cubicBezTo>
                  <a:pt x="7365" y="18155"/>
                  <a:pt x="4789" y="15596"/>
                  <a:pt x="478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1" descr="12_const_1924"/>
          <p:cNvPicPr/>
          <p:nvPr/>
        </p:nvPicPr>
        <p:blipFill>
          <a:blip r:embed="rId2"/>
          <a:stretch/>
        </p:blipFill>
        <p:spPr>
          <a:xfrm>
            <a:off x="5745240" y="198360"/>
            <a:ext cx="2908080" cy="37134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0017-014-Konstitutsija-RF"/>
          <p:cNvPicPr/>
          <p:nvPr/>
        </p:nvPicPr>
        <p:blipFill>
          <a:blip r:embed="rId3"/>
          <a:stretch/>
        </p:blipFill>
        <p:spPr>
          <a:xfrm>
            <a:off x="2835360" y="185760"/>
            <a:ext cx="2805120" cy="39099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3" descr="5509c7fc55971ad8eed3483677b"/>
          <p:cNvPicPr/>
          <p:nvPr/>
        </p:nvPicPr>
        <p:blipFill>
          <a:blip r:embed="rId4"/>
          <a:stretch/>
        </p:blipFill>
        <p:spPr>
          <a:xfrm>
            <a:off x="501480" y="2770200"/>
            <a:ext cx="2746440" cy="4087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5" descr="64588_original"/>
          <p:cNvPicPr/>
          <p:nvPr/>
        </p:nvPicPr>
        <p:blipFill>
          <a:blip r:embed="rId5"/>
          <a:stretch/>
        </p:blipFill>
        <p:spPr>
          <a:xfrm>
            <a:off x="4392720" y="3301920"/>
            <a:ext cx="2463840" cy="336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User</cp:lastModifiedBy>
  <dcterms:modified xsi:type="dcterms:W3CDTF">2020-12-07T04:46:02Z</dcterms:modified>
  <cp:revision>99</cp:revision>
  <dc:subject/>
  <dc:title>Слайд 1</dc:title>
</cp:coreProperties>
</file>